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D7F-3FE9-48D2-80E3-D86AA1AB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167-D7B5-48A6-BDBF-9A3FF17D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43D-6F40-4BA8-AEBE-8F3D65B8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C89-0713-4AE5-8D9D-160C49EF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5A1-DD9F-40DC-8F74-F4FAED42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67C-A678-418C-B355-1DEFECB1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EC0-1F7F-4279-8A72-0D47E0A4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D91-FA34-48AA-9DAA-0FDFA1F1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E3F-81AB-4881-BE73-4B7975EE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359-C609-4F4B-9E31-E18C933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40C-0139-4DE2-A458-1F8E6666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1A2-7DAE-4216-B208-59D226A2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F005-A18C-45EB-965C-B1AED93F6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4716360" y="292428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4716360" y="328464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蜻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716360" y="3643200"/>
            <a:ext cx="576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140360" y="2924280"/>
            <a:ext cx="57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4140360" y="3643200"/>
            <a:ext cx="57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斯佩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4140360" y="3284640"/>
            <a:ext cx="57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诗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843280" y="2924280"/>
            <a:ext cx="1152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132000" y="371628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迈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2411280" y="3643200"/>
            <a:ext cx="72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傲巴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484360" y="2924280"/>
            <a:ext cx="358920" cy="5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铁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西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1403280" y="2995560"/>
            <a:ext cx="649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奥卡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1403280" y="3355920"/>
            <a:ext cx="649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蒂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1692360" y="3716280"/>
            <a:ext cx="36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900000" y="2995560"/>
            <a:ext cx="50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1403280" y="3716280"/>
            <a:ext cx="28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900000" y="3571920"/>
            <a:ext cx="5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斯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324000" y="1987560"/>
            <a:ext cx="79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吻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1116000" y="198756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2124000" y="1987560"/>
            <a:ext cx="7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3492360" y="1987560"/>
            <a:ext cx="863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真美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4356000" y="1987560"/>
            <a:ext cx="863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尔斯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5219640" y="1987560"/>
            <a:ext cx="7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妙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5940360" y="1987560"/>
            <a:ext cx="64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6588000" y="1987560"/>
            <a:ext cx="57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薇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6661080" y="2779560"/>
            <a:ext cx="57636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5508720" y="2995560"/>
            <a:ext cx="503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5508720" y="3859200"/>
            <a:ext cx="5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星期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2"/>
          <p:cNvSpPr/>
          <p:nvPr/>
        </p:nvSpPr>
        <p:spPr>
          <a:xfrm>
            <a:off x="5148360" y="4363920"/>
            <a:ext cx="863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康莉 安玛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4211640" y="4219560"/>
            <a:ext cx="936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百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4"/>
          <p:cNvSpPr/>
          <p:nvPr/>
        </p:nvSpPr>
        <p:spPr>
          <a:xfrm>
            <a:off x="1835280" y="4219560"/>
            <a:ext cx="93636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5"/>
          <p:cNvSpPr/>
          <p:nvPr/>
        </p:nvSpPr>
        <p:spPr>
          <a:xfrm>
            <a:off x="900000" y="4219560"/>
            <a:ext cx="936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其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>
            <a:off x="179280" y="4219560"/>
            <a:ext cx="720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森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8"/>
          <p:cNvSpPr/>
          <p:nvPr/>
        </p:nvSpPr>
        <p:spPr>
          <a:xfrm>
            <a:off x="2771640" y="4219560"/>
            <a:ext cx="72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芙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3492360" y="4219560"/>
            <a:ext cx="720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弗洛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0"/>
          <p:cNvSpPr/>
          <p:nvPr/>
        </p:nvSpPr>
        <p:spPr>
          <a:xfrm>
            <a:off x="179280" y="2924280"/>
            <a:ext cx="50508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直梯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3060720" y="3355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2"/>
          <p:cNvSpPr/>
          <p:nvPr/>
        </p:nvSpPr>
        <p:spPr>
          <a:xfrm>
            <a:off x="7164360" y="1987560"/>
            <a:ext cx="1763640" cy="331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屈臣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1476360" y="2492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巍雅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手表维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476360" y="2997360"/>
            <a:ext cx="35892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英纳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908000" y="2492280"/>
            <a:ext cx="360360" cy="5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巍雅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暴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陌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派丽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908000" y="3068640"/>
            <a:ext cx="36036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巍雅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爵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绿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时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340000" y="2781360"/>
            <a:ext cx="216000" cy="863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2700360" y="2781360"/>
            <a:ext cx="79200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潮宏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700360" y="3500280"/>
            <a:ext cx="790560" cy="2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635280" y="2637000"/>
            <a:ext cx="36036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帝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3635280" y="3284640"/>
            <a:ext cx="36036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吉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4067280" y="2637000"/>
            <a:ext cx="288720" cy="10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4356000" y="2637000"/>
            <a:ext cx="1079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067280" y="3645000"/>
            <a:ext cx="649080" cy="217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度 誉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5076720" y="3284640"/>
            <a:ext cx="360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5508720" y="2637000"/>
            <a:ext cx="28872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5580000" y="3645000"/>
            <a:ext cx="28908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曼谷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796000" y="2637000"/>
            <a:ext cx="64908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千细 香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867280" y="3645000"/>
            <a:ext cx="576360" cy="28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6516720" y="2637000"/>
            <a:ext cx="64908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唯都 五丁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6516720" y="3645000"/>
            <a:ext cx="28872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莉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6804000" y="3573360"/>
            <a:ext cx="2890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04000" y="3429000"/>
            <a:ext cx="28908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玫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7380360" y="2637000"/>
            <a:ext cx="431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羊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7812000" y="2637000"/>
            <a:ext cx="28728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偢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7164360" y="3789360"/>
            <a:ext cx="50328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摩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7667640" y="3789360"/>
            <a:ext cx="4334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璐帕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8172360" y="2781360"/>
            <a:ext cx="287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维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8532720" y="2781360"/>
            <a:ext cx="287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羊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8172360" y="3500280"/>
            <a:ext cx="287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雅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8532720" y="3500280"/>
            <a:ext cx="28728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395280" y="1700280"/>
            <a:ext cx="936720" cy="10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敦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1332000" y="1700280"/>
            <a:ext cx="93636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蕾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2268360" y="1989000"/>
            <a:ext cx="1079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罗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3348000" y="1773360"/>
            <a:ext cx="93672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4284720" y="1773360"/>
            <a:ext cx="50328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米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芭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4788000" y="1773360"/>
            <a:ext cx="36036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5148360" y="2060640"/>
            <a:ext cx="50328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婉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5651640" y="2060640"/>
            <a:ext cx="93636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城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6588000" y="1773360"/>
            <a:ext cx="86364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亦谷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.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7451640" y="2060640"/>
            <a:ext cx="43344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红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7885080" y="1773360"/>
            <a:ext cx="79056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纳维斯 康定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8710560" y="1916280"/>
            <a:ext cx="254160" cy="50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升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1640" y="4221000"/>
            <a:ext cx="50508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袜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7020000" y="4221000"/>
            <a:ext cx="43344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588000" y="4221000"/>
            <a:ext cx="43344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6156360" y="4221000"/>
            <a:ext cx="43344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651640" y="4149720"/>
            <a:ext cx="5047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5219640" y="4149720"/>
            <a:ext cx="43344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788000" y="4292640"/>
            <a:ext cx="43344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宝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眼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564000" y="4076640"/>
            <a:ext cx="6476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700360" y="4076640"/>
            <a:ext cx="863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容子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050920" y="4076640"/>
            <a:ext cx="6494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赛斯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403280" y="4076640"/>
            <a:ext cx="64944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靓美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324000" y="2852640"/>
            <a:ext cx="576000" cy="865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玫而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324000" y="3716280"/>
            <a:ext cx="9349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4716360" y="3645000"/>
            <a:ext cx="36036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黎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7956720" y="2854440"/>
            <a:ext cx="502920" cy="57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周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72360" y="3646440"/>
            <a:ext cx="287280" cy="57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451640" y="4005360"/>
            <a:ext cx="649440" cy="28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451640" y="2854440"/>
            <a:ext cx="50508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流行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443640" y="3718080"/>
            <a:ext cx="576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衣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7164360" y="3070080"/>
            <a:ext cx="28728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6443640" y="2854440"/>
            <a:ext cx="576360" cy="718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史努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中国娃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5580000" y="3718080"/>
            <a:ext cx="7207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 rot="16200000">
            <a:off x="5579280" y="2855160"/>
            <a:ext cx="50472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MER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6084720" y="2997360"/>
            <a:ext cx="216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564000" y="3646440"/>
            <a:ext cx="1800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美丽     雪儿     谜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3564000" y="2854440"/>
            <a:ext cx="79200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A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 rot="16200000">
            <a:off x="2775600" y="3353400"/>
            <a:ext cx="360360" cy="1089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诺贝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色彩地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卡姿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玛丽黛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丽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潘多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411280" y="2925720"/>
            <a:ext cx="100836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百家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179280" y="4149720"/>
            <a:ext cx="122400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1332000" y="2925720"/>
            <a:ext cx="7905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GIZ  GOZ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755640" y="2925720"/>
            <a:ext cx="287280" cy="100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1042920" y="2925720"/>
            <a:ext cx="28728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菲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179280" y="1989000"/>
            <a:ext cx="10796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夏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1258920" y="1989000"/>
            <a:ext cx="1079640" cy="64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摩安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2340000" y="2349360"/>
            <a:ext cx="100800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3348000" y="2062080"/>
            <a:ext cx="18716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OMODA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时力 歌莉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4500720" y="2854440"/>
            <a:ext cx="93492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5219640" y="2349360"/>
            <a:ext cx="647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AM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5867280" y="2349360"/>
            <a:ext cx="115272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7020000" y="2062080"/>
            <a:ext cx="197964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           艾格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8640720" y="2709720"/>
            <a:ext cx="503280" cy="2376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莉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桑扶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西施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日贝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慕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欧迪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芬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7020000" y="4438800"/>
            <a:ext cx="165744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古今 曼诗婷 曼妮芬 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6156360" y="4365720"/>
            <a:ext cx="86364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5724360" y="4365720"/>
            <a:ext cx="43200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r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5219640" y="4365720"/>
            <a:ext cx="5032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6"/>
          <p:cNvSpPr/>
          <p:nvPr/>
        </p:nvSpPr>
        <p:spPr>
          <a:xfrm>
            <a:off x="4716360" y="4510080"/>
            <a:ext cx="503280" cy="64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兰卓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3419640" y="4365720"/>
            <a:ext cx="72072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ncy.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8"/>
          <p:cNvSpPr/>
          <p:nvPr/>
        </p:nvSpPr>
        <p:spPr>
          <a:xfrm>
            <a:off x="2484360" y="4365720"/>
            <a:ext cx="935280" cy="28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by  p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9"/>
          <p:cNvSpPr/>
          <p:nvPr/>
        </p:nvSpPr>
        <p:spPr>
          <a:xfrm>
            <a:off x="1332000" y="4149720"/>
            <a:ext cx="1081080" cy="79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N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179280" y="2709720"/>
            <a:ext cx="50508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高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1"/>
          <p:cNvSpPr/>
          <p:nvPr/>
        </p:nvSpPr>
        <p:spPr>
          <a:xfrm>
            <a:off x="2484360" y="3357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543564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3"/>
          <p:cNvSpPr/>
          <p:nvPr/>
        </p:nvSpPr>
        <p:spPr>
          <a:xfrm>
            <a:off x="3995640" y="32860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直梯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4"/>
          <p:cNvSpPr/>
          <p:nvPr/>
        </p:nvSpPr>
        <p:spPr>
          <a:xfrm>
            <a:off x="7451640" y="3070080"/>
            <a:ext cx="358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1042920" y="2565360"/>
            <a:ext cx="64764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法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835280" y="2637000"/>
            <a:ext cx="36036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啄木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培罗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835280" y="3284640"/>
            <a:ext cx="36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s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2268360" y="2708280"/>
            <a:ext cx="360720" cy="433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博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2268360" y="3429000"/>
            <a:ext cx="100836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舒雅 金安德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3492360" y="2637000"/>
            <a:ext cx="50328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3492360" y="3213000"/>
            <a:ext cx="503280" cy="505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莱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4500720" y="2708280"/>
            <a:ext cx="79200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4500720" y="3213000"/>
            <a:ext cx="7920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4140360" y="3573360"/>
            <a:ext cx="36036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5435640" y="2708280"/>
            <a:ext cx="64908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6227640" y="2708280"/>
            <a:ext cx="93672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227640" y="3284640"/>
            <a:ext cx="93672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7164360" y="2708280"/>
            <a:ext cx="504720" cy="289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帆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7667640" y="2708280"/>
            <a:ext cx="576360" cy="792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im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7164360" y="3573360"/>
            <a:ext cx="50328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萨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丹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7667640" y="3500280"/>
            <a:ext cx="57636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132000" y="2708280"/>
            <a:ext cx="21600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2627280" y="2708280"/>
            <a:ext cx="504720" cy="433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杉杉 梦特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0" y="1844640"/>
            <a:ext cx="118728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1187280" y="1844640"/>
            <a:ext cx="792360" cy="57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萨劳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2050920" y="2205000"/>
            <a:ext cx="115272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利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3203640" y="1916280"/>
            <a:ext cx="1800000" cy="57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field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RIT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艾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0"/>
          <p:cNvSpPr/>
          <p:nvPr/>
        </p:nvSpPr>
        <p:spPr>
          <a:xfrm>
            <a:off x="5003640" y="2133720"/>
            <a:ext cx="115272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衣恋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6443640" y="1989000"/>
            <a:ext cx="2160720" cy="574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ke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玛卡西尼    佐丹奴 男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8317080" y="2781360"/>
            <a:ext cx="431640" cy="1152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仙踪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7308720" y="4005360"/>
            <a:ext cx="430200" cy="3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左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4"/>
          <p:cNvSpPr/>
          <p:nvPr/>
        </p:nvSpPr>
        <p:spPr>
          <a:xfrm>
            <a:off x="6300720" y="4005360"/>
            <a:ext cx="100656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川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5"/>
          <p:cNvSpPr/>
          <p:nvPr/>
        </p:nvSpPr>
        <p:spPr>
          <a:xfrm>
            <a:off x="5435640" y="4005360"/>
            <a:ext cx="865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6"/>
          <p:cNvSpPr/>
          <p:nvPr/>
        </p:nvSpPr>
        <p:spPr>
          <a:xfrm>
            <a:off x="5435640" y="3500280"/>
            <a:ext cx="649080" cy="362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7"/>
          <p:cNvSpPr/>
          <p:nvPr/>
        </p:nvSpPr>
        <p:spPr>
          <a:xfrm>
            <a:off x="4643280" y="4005360"/>
            <a:ext cx="79380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思莱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8"/>
          <p:cNvSpPr/>
          <p:nvPr/>
        </p:nvSpPr>
        <p:spPr>
          <a:xfrm>
            <a:off x="3995640" y="3933720"/>
            <a:ext cx="647640" cy="21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宜而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9"/>
          <p:cNvSpPr/>
          <p:nvPr/>
        </p:nvSpPr>
        <p:spPr>
          <a:xfrm>
            <a:off x="3203640" y="3933720"/>
            <a:ext cx="793800" cy="719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特卖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2411280" y="3933720"/>
            <a:ext cx="648000" cy="287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K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1619280" y="3933720"/>
            <a:ext cx="64764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依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971640" y="3933720"/>
            <a:ext cx="64764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顺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3"/>
          <p:cNvSpPr/>
          <p:nvPr/>
        </p:nvSpPr>
        <p:spPr>
          <a:xfrm>
            <a:off x="1042920" y="3213000"/>
            <a:ext cx="61272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尔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4"/>
          <p:cNvSpPr/>
          <p:nvPr/>
        </p:nvSpPr>
        <p:spPr>
          <a:xfrm>
            <a:off x="2556000" y="31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5"/>
          <p:cNvSpPr/>
          <p:nvPr/>
        </p:nvSpPr>
        <p:spPr>
          <a:xfrm>
            <a:off x="5435640" y="3141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4"/>
          <p:cNvSpPr/>
          <p:nvPr/>
        </p:nvSpPr>
        <p:spPr>
          <a:xfrm>
            <a:off x="6516720" y="4941720"/>
            <a:ext cx="1006560" cy="648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川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爱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5508720" y="3573360"/>
            <a:ext cx="934920" cy="5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内衣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5508720" y="2276640"/>
            <a:ext cx="934920" cy="115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女装特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4788000" y="3645000"/>
            <a:ext cx="50328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s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067280" y="364500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llo ki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211640" y="3213000"/>
            <a:ext cx="57636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水孩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4859280" y="2781360"/>
            <a:ext cx="43200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淘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500720" y="2781360"/>
            <a:ext cx="3603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安奈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3635280" y="3645000"/>
            <a:ext cx="432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3635280" y="2781360"/>
            <a:ext cx="57636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阿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达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88000" y="3213000"/>
            <a:ext cx="50328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麽麽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2987640" y="3789360"/>
            <a:ext cx="432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瑞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军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2556000" y="3789360"/>
            <a:ext cx="431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拯救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050920" y="3789360"/>
            <a:ext cx="50508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龙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戴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2195640" y="2852640"/>
            <a:ext cx="647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天伦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0"/>
          <p:cNvSpPr/>
          <p:nvPr/>
        </p:nvSpPr>
        <p:spPr>
          <a:xfrm>
            <a:off x="2843280" y="2852640"/>
            <a:ext cx="5047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弗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斯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2482920" y="3357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电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5075280" y="2276640"/>
            <a:ext cx="43164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5"/>
          <p:cNvSpPr/>
          <p:nvPr/>
        </p:nvSpPr>
        <p:spPr>
          <a:xfrm>
            <a:off x="3132000" y="1989000"/>
            <a:ext cx="7207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3851280" y="1989000"/>
            <a:ext cx="122400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w in paw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贝姿 衣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2627280" y="1989000"/>
            <a:ext cx="5047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匡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1258920" y="1989000"/>
            <a:ext cx="136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狮牌   卡帕   美津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1332000" y="2852640"/>
            <a:ext cx="64764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611280" y="3860640"/>
            <a:ext cx="504720" cy="50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团购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1403280" y="4437000"/>
            <a:ext cx="180036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李宁     特步     安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3490920" y="4292640"/>
            <a:ext cx="6494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阿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4788000" y="4292640"/>
            <a:ext cx="18716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小耐克 好孩子 皇后婴儿 皇家 宝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4"/>
          <p:cNvSpPr/>
          <p:nvPr/>
        </p:nvSpPr>
        <p:spPr>
          <a:xfrm>
            <a:off x="6732720" y="1989000"/>
            <a:ext cx="1834920" cy="302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美食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0T00:34:12Z</dcterms:created>
  <dc:creator>微软用户</dc:creator>
  <dc:description/>
  <dc:language>en-US</dc:language>
  <cp:lastModifiedBy>微软用户</cp:lastModifiedBy>
  <dcterms:modified xsi:type="dcterms:W3CDTF">2013-03-22T07:38:59Z</dcterms:modified>
  <cp:revision>28</cp:revision>
  <dc:subject/>
  <dc:title>幻灯片 1</dc:title>
</cp:coreProperties>
</file>