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2F8-2D80-4728-9E4A-8D9077E0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FF0-1191-4781-B6BF-3F4A385E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66F-02D6-4B13-B74A-5B7A2760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393-9B5A-4BE6-8CE8-6EF7C5DB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8A8-C67C-45B6-82CF-59A26C6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15A-1CB1-4925-B85B-8DEE21AF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31A-91B1-462E-81D6-3C6F2072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8C6-DC2D-41D0-9ADC-62BCE388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570-DE85-4631-BA11-492C393A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E6B5-4603-4BC1-A6FA-03D5FE1C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497-0AED-4132-936E-28EFE17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BA3-72EB-4C9A-95BE-9160FDB1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E882-E7C4-46F7-B9E0-E70594450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443640" y="4724280"/>
            <a:ext cx="216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156360" y="4724280"/>
            <a:ext cx="2872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膳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丸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5651640" y="4724280"/>
            <a:ext cx="43308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秀雅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148360" y="4724280"/>
            <a:ext cx="4334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羽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43280" y="4724280"/>
            <a:ext cx="4334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佰草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宝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3995640" y="4724280"/>
            <a:ext cx="5778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蜜丝佛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 rot="2533800">
            <a:off x="3058920" y="494172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伊丽莎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 rot="2694000">
            <a:off x="2627280" y="4581360"/>
            <a:ext cx="43200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 rot="2590200">
            <a:off x="3047760" y="4121280"/>
            <a:ext cx="431640" cy="434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 rot="2545200">
            <a:off x="3443400" y="4518000"/>
            <a:ext cx="431640" cy="43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 rot="2545200">
            <a:off x="3419280" y="378900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C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 rot="2455200">
            <a:off x="3779640" y="4149360"/>
            <a:ext cx="43164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 rot="2455200">
            <a:off x="4130640" y="3711240"/>
            <a:ext cx="439920" cy="358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P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 rot="18762600">
            <a:off x="3785040" y="3418560"/>
            <a:ext cx="447840" cy="40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N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rot="21189000">
            <a:off x="2695680" y="3428640"/>
            <a:ext cx="431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KIN F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rot="21189000">
            <a:off x="2604960" y="2781360"/>
            <a:ext cx="432000" cy="21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资生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 rot="21189000">
            <a:off x="2486160" y="1698120"/>
            <a:ext cx="43164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理肤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薇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 rot="21189000">
            <a:off x="2412720" y="977760"/>
            <a:ext cx="431640" cy="650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嘉媚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泊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漫香榭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rber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4"/>
          <p:cNvSpPr/>
          <p:nvPr/>
        </p:nvSpPr>
        <p:spPr>
          <a:xfrm rot="21189000">
            <a:off x="2625840" y="2982600"/>
            <a:ext cx="431640" cy="298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悠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 rot="21189000">
            <a:off x="2558880" y="2058840"/>
            <a:ext cx="43200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VLG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 JAC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A 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 rot="21189000">
            <a:off x="1501560" y="893880"/>
            <a:ext cx="790560" cy="232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 rot="21189000">
            <a:off x="1110960" y="3227040"/>
            <a:ext cx="1368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德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 rot="21189000">
            <a:off x="1184040" y="3785760"/>
            <a:ext cx="136836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施华洛世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 rot="3408600">
            <a:off x="2080440" y="4077360"/>
            <a:ext cx="555480" cy="55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 rot="21189000">
            <a:off x="1335240" y="186840"/>
            <a:ext cx="1655640" cy="70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丹尼尔    华斯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 rot="21189000">
            <a:off x="3028680" y="42480"/>
            <a:ext cx="577800" cy="12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 rot="21189000">
            <a:off x="3631680" y="826560"/>
            <a:ext cx="722520" cy="43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眼镜集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5"/>
          <p:cNvSpPr/>
          <p:nvPr/>
        </p:nvSpPr>
        <p:spPr>
          <a:xfrm rot="21189000">
            <a:off x="3117960" y="1557000"/>
            <a:ext cx="577800" cy="107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7"/>
          <p:cNvSpPr/>
          <p:nvPr/>
        </p:nvSpPr>
        <p:spPr>
          <a:xfrm rot="21189000">
            <a:off x="3200040" y="2607840"/>
            <a:ext cx="86688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格狮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8"/>
          <p:cNvSpPr/>
          <p:nvPr/>
        </p:nvSpPr>
        <p:spPr>
          <a:xfrm rot="21189000">
            <a:off x="3995640" y="2276640"/>
            <a:ext cx="216000" cy="515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名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西铁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 rot="21189000">
            <a:off x="3922560" y="1482840"/>
            <a:ext cx="2160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海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警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克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泰格豪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金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图沙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丽斯希尔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 rot="21189000">
            <a:off x="4214520" y="1482840"/>
            <a:ext cx="2872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时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西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卡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 rot="21189000">
            <a:off x="4284360" y="2060640"/>
            <a:ext cx="2872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爵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亚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 rot="2545200">
            <a:off x="4475160" y="2649600"/>
            <a:ext cx="236520" cy="280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西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/>
          <p:cNvSpPr/>
          <p:nvPr/>
        </p:nvSpPr>
        <p:spPr>
          <a:xfrm rot="2545200">
            <a:off x="4697280" y="2868480"/>
            <a:ext cx="236520" cy="26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"/>
          <p:cNvSpPr/>
          <p:nvPr/>
        </p:nvSpPr>
        <p:spPr>
          <a:xfrm rot="2545200">
            <a:off x="4913280" y="3084480"/>
            <a:ext cx="236520" cy="26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 rot="21304200">
            <a:off x="4572000" y="1414440"/>
            <a:ext cx="64764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精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波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7"/>
          <p:cNvSpPr/>
          <p:nvPr/>
        </p:nvSpPr>
        <p:spPr>
          <a:xfrm rot="10628400">
            <a:off x="4646520" y="2490480"/>
            <a:ext cx="649440" cy="64908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帝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u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8"/>
          <p:cNvSpPr/>
          <p:nvPr/>
        </p:nvSpPr>
        <p:spPr>
          <a:xfrm>
            <a:off x="5292720" y="2492280"/>
            <a:ext cx="719280" cy="649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时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米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9"/>
          <p:cNvSpPr/>
          <p:nvPr/>
        </p:nvSpPr>
        <p:spPr>
          <a:xfrm rot="16200000">
            <a:off x="4671360" y="3393000"/>
            <a:ext cx="647640" cy="57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4716360" y="4005360"/>
            <a:ext cx="172728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切瑞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81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肯迪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6443640" y="3570120"/>
            <a:ext cx="504720" cy="1008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君皇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6948360" y="4149720"/>
            <a:ext cx="506520" cy="1295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3851280" y="5300640"/>
            <a:ext cx="936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登喜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3"/>
          <p:cNvSpPr/>
          <p:nvPr/>
        </p:nvSpPr>
        <p:spPr>
          <a:xfrm rot="1924800">
            <a:off x="3304800" y="5328720"/>
            <a:ext cx="866880" cy="1054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地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5"/>
          <p:cNvSpPr/>
          <p:nvPr/>
        </p:nvSpPr>
        <p:spPr>
          <a:xfrm>
            <a:off x="4788000" y="5300640"/>
            <a:ext cx="72072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6"/>
          <p:cNvSpPr/>
          <p:nvPr/>
        </p:nvSpPr>
        <p:spPr>
          <a:xfrm>
            <a:off x="5796000" y="5300640"/>
            <a:ext cx="86364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8"/>
          <p:cNvSpPr/>
          <p:nvPr/>
        </p:nvSpPr>
        <p:spPr>
          <a:xfrm rot="2545200">
            <a:off x="4427280" y="3284640"/>
            <a:ext cx="431640" cy="150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总服务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0"/>
          <p:cNvSpPr/>
          <p:nvPr/>
        </p:nvSpPr>
        <p:spPr>
          <a:xfrm rot="2694000">
            <a:off x="2030040" y="5226120"/>
            <a:ext cx="954000" cy="501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正门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 rot="2518800">
            <a:off x="3995280" y="3357360"/>
            <a:ext cx="954360" cy="245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电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5"/>
          <p:cNvSpPr/>
          <p:nvPr/>
        </p:nvSpPr>
        <p:spPr>
          <a:xfrm>
            <a:off x="6804000" y="6208560"/>
            <a:ext cx="72072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宝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 rot="21380400">
            <a:off x="900000" y="796680"/>
            <a:ext cx="1150920" cy="399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亿欧  他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 rot="21385200">
            <a:off x="900000" y="1195560"/>
            <a:ext cx="1224000" cy="560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森达       伊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斯佩斯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 rot="21380400">
            <a:off x="971280" y="1699920"/>
            <a:ext cx="1147680" cy="474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富贵鸟  达芙妮  迪芙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 rot="21380400">
            <a:off x="2316240" y="689040"/>
            <a:ext cx="647640" cy="2665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太阳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星期六 帕翠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接吻猫 嘉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千百度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n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D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汤普葛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 rot="21380400">
            <a:off x="1778040" y="2344320"/>
            <a:ext cx="48888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曼仙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伯丽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ha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 rot="21295200">
            <a:off x="412920" y="974520"/>
            <a:ext cx="342720" cy="1660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都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瓦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 rot="21295200">
            <a:off x="826560" y="2421000"/>
            <a:ext cx="34308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伐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 rot="21298200">
            <a:off x="1252080" y="2340000"/>
            <a:ext cx="4381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乐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 rot="21295200">
            <a:off x="1476000" y="2636640"/>
            <a:ext cx="21132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 rot="21295200">
            <a:off x="641520" y="3301560"/>
            <a:ext cx="1126800" cy="1062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 rot="18780600">
            <a:off x="2108160" y="4363920"/>
            <a:ext cx="342720" cy="1733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宝 克雷斯丹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卡尔丹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 rot="16424400">
            <a:off x="3492360" y="5515920"/>
            <a:ext cx="506520" cy="1084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莱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 rot="18843000">
            <a:off x="2321640" y="4512240"/>
            <a:ext cx="3427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瑞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 rot="18843000">
            <a:off x="2599560" y="417708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新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 rot="18843000">
            <a:off x="2743920" y="489780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翠绿首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 rot="18617400">
            <a:off x="3031200" y="4537440"/>
            <a:ext cx="34308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尼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 rot="16200000">
            <a:off x="4282920" y="4722480"/>
            <a:ext cx="358920" cy="50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 rot="16200000">
            <a:off x="4968000" y="476136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 rot="16200000">
            <a:off x="5544360" y="476136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 rot="16200000">
            <a:off x="6120360" y="4761000"/>
            <a:ext cx="358920" cy="43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6"/>
          <p:cNvSpPr/>
          <p:nvPr/>
        </p:nvSpPr>
        <p:spPr>
          <a:xfrm rot="16200000">
            <a:off x="4320360" y="5191560"/>
            <a:ext cx="3589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六福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7"/>
          <p:cNvSpPr/>
          <p:nvPr/>
        </p:nvSpPr>
        <p:spPr>
          <a:xfrm rot="16200000">
            <a:off x="4896360" y="5191560"/>
            <a:ext cx="35892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凤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/>
          <p:cNvSpPr/>
          <p:nvPr/>
        </p:nvSpPr>
        <p:spPr>
          <a:xfrm rot="16200000">
            <a:off x="5544360" y="5264640"/>
            <a:ext cx="35892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珠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 rot="16200000">
            <a:off x="6120360" y="5264280"/>
            <a:ext cx="358920" cy="43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 rot="16200000">
            <a:off x="5184000" y="3680280"/>
            <a:ext cx="64764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露莎尼亚     星光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 rot="16200000">
            <a:off x="4283640" y="4077000"/>
            <a:ext cx="647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2"/>
          <p:cNvSpPr/>
          <p:nvPr/>
        </p:nvSpPr>
        <p:spPr>
          <a:xfrm rot="16200000">
            <a:off x="6263280" y="3969360"/>
            <a:ext cx="216000" cy="43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卧龙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3"/>
          <p:cNvSpPr/>
          <p:nvPr/>
        </p:nvSpPr>
        <p:spPr>
          <a:xfrm rot="302400">
            <a:off x="6732360" y="4068720"/>
            <a:ext cx="312480" cy="151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柔拉水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精品和田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云鹏玉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4"/>
          <p:cNvSpPr/>
          <p:nvPr/>
        </p:nvSpPr>
        <p:spPr>
          <a:xfrm rot="16200000">
            <a:off x="5544360" y="5191560"/>
            <a:ext cx="647640" cy="2017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泽雅珍珠  亚欧银饰 盛嘉银饰  亚欧玉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5"/>
          <p:cNvSpPr/>
          <p:nvPr/>
        </p:nvSpPr>
        <p:spPr>
          <a:xfrm rot="13380600">
            <a:off x="3973680" y="2901600"/>
            <a:ext cx="83952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6"/>
          <p:cNvSpPr/>
          <p:nvPr/>
        </p:nvSpPr>
        <p:spPr>
          <a:xfrm rot="21396000">
            <a:off x="3062160" y="1339920"/>
            <a:ext cx="343080" cy="1800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 rot="21446400">
            <a:off x="3846600" y="1267920"/>
            <a:ext cx="342720" cy="151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8"/>
          <p:cNvSpPr/>
          <p:nvPr/>
        </p:nvSpPr>
        <p:spPr>
          <a:xfrm rot="21295200">
            <a:off x="3006720" y="693720"/>
            <a:ext cx="34308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雅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0"/>
          <p:cNvSpPr/>
          <p:nvPr/>
        </p:nvSpPr>
        <p:spPr>
          <a:xfrm rot="21466800">
            <a:off x="3846600" y="682560"/>
            <a:ext cx="504720" cy="442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莱尔斯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1"/>
          <p:cNvSpPr/>
          <p:nvPr/>
        </p:nvSpPr>
        <p:spPr>
          <a:xfrm rot="10800000">
            <a:off x="4355640" y="691560"/>
            <a:ext cx="1368360" cy="43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5435640" y="1125360"/>
            <a:ext cx="342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夏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3"/>
          <p:cNvSpPr/>
          <p:nvPr/>
        </p:nvSpPr>
        <p:spPr>
          <a:xfrm>
            <a:off x="4356000" y="1773360"/>
            <a:ext cx="417600" cy="101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安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保兰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帕加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4"/>
          <p:cNvSpPr/>
          <p:nvPr/>
        </p:nvSpPr>
        <p:spPr>
          <a:xfrm>
            <a:off x="4356000" y="1197000"/>
            <a:ext cx="863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人头  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5"/>
          <p:cNvSpPr/>
          <p:nvPr/>
        </p:nvSpPr>
        <p:spPr>
          <a:xfrm>
            <a:off x="4788000" y="3141720"/>
            <a:ext cx="79200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生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6"/>
          <p:cNvSpPr/>
          <p:nvPr/>
        </p:nvSpPr>
        <p:spPr>
          <a:xfrm rot="18030000">
            <a:off x="294120" y="505440"/>
            <a:ext cx="839880" cy="34920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3300"/>
                </a:solidFill>
                <a:latin typeface="Arial"/>
              </a:rPr>
              <a:t>修鞋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7"/>
          <p:cNvSpPr/>
          <p:nvPr/>
        </p:nvSpPr>
        <p:spPr>
          <a:xfrm rot="21330600">
            <a:off x="971280" y="266400"/>
            <a:ext cx="1727280" cy="37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时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D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美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9"/>
          <p:cNvSpPr/>
          <p:nvPr/>
        </p:nvSpPr>
        <p:spPr>
          <a:xfrm rot="21295200">
            <a:off x="3344400" y="971280"/>
            <a:ext cx="577800" cy="2206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真美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8"/>
          <p:cNvSpPr/>
          <p:nvPr/>
        </p:nvSpPr>
        <p:spPr>
          <a:xfrm>
            <a:off x="4356000" y="1484280"/>
            <a:ext cx="8636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S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绅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9"/>
          <p:cNvSpPr/>
          <p:nvPr/>
        </p:nvSpPr>
        <p:spPr>
          <a:xfrm rot="21298200">
            <a:off x="1984320" y="3565080"/>
            <a:ext cx="57636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妙丽  比安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0"/>
          <p:cNvSpPr/>
          <p:nvPr/>
        </p:nvSpPr>
        <p:spPr>
          <a:xfrm rot="5044200">
            <a:off x="2044800" y="4002120"/>
            <a:ext cx="583920" cy="5810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周大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2"/>
          <p:cNvSpPr/>
          <p:nvPr/>
        </p:nvSpPr>
        <p:spPr>
          <a:xfrm rot="17580000">
            <a:off x="3402360" y="4871160"/>
            <a:ext cx="62712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吉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谢瑞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3"/>
          <p:cNvSpPr/>
          <p:nvPr/>
        </p:nvSpPr>
        <p:spPr>
          <a:xfrm rot="19485600">
            <a:off x="2639520" y="3446280"/>
            <a:ext cx="773280" cy="21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普里奥阿玛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4"/>
          <p:cNvSpPr/>
          <p:nvPr/>
        </p:nvSpPr>
        <p:spPr>
          <a:xfrm rot="17980200">
            <a:off x="3635640" y="4364640"/>
            <a:ext cx="699840" cy="19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黄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5"/>
          <p:cNvSpPr/>
          <p:nvPr/>
        </p:nvSpPr>
        <p:spPr>
          <a:xfrm>
            <a:off x="4356000" y="3429000"/>
            <a:ext cx="513000" cy="5810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7"/>
          <p:cNvSpPr/>
          <p:nvPr/>
        </p:nvSpPr>
        <p:spPr>
          <a:xfrm rot="2866800">
            <a:off x="4762080" y="2589120"/>
            <a:ext cx="423720" cy="4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国旅行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新秀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324000" y="1700280"/>
            <a:ext cx="647640" cy="194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沐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应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6920" y="620640"/>
            <a:ext cx="936720" cy="1081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玫而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763640" y="1125360"/>
            <a:ext cx="12956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柯罗芭             朗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 rot="270600">
            <a:off x="3489120" y="1681200"/>
            <a:ext cx="280800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兰卡文华歌尔 伊维斯  曼妮芬 安莉芳黛安芬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 rot="186000">
            <a:off x="4428720" y="2565360"/>
            <a:ext cx="50472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安姬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 rot="16200000">
            <a:off x="4430520" y="3854520"/>
            <a:ext cx="581040" cy="44100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 rot="185400">
            <a:off x="4792680" y="3282840"/>
            <a:ext cx="504720" cy="649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宝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4500720" y="4365720"/>
            <a:ext cx="165564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纳达    音儿    粉红玛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6342120" y="4362480"/>
            <a:ext cx="504720" cy="1657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力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雾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钡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211720" y="5732640"/>
            <a:ext cx="865080" cy="441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子廊   卡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 rot="277800">
            <a:off x="5800680" y="2138400"/>
            <a:ext cx="433440" cy="568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达尔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秋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 rot="270600">
            <a:off x="4427280" y="2259000"/>
            <a:ext cx="136188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婷美 慕兰  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16000" y="1844640"/>
            <a:ext cx="647640" cy="1079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玖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珂莱蒂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1476360" y="3068640"/>
            <a:ext cx="2872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 rot="21019200">
            <a:off x="1030320" y="4005360"/>
            <a:ext cx="72072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玛丝菲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395280" y="3645000"/>
            <a:ext cx="1368360" cy="504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 rot="18738000">
            <a:off x="1877040" y="4911840"/>
            <a:ext cx="593640" cy="1224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利亚里    雅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3"/>
          <p:cNvSpPr/>
          <p:nvPr/>
        </p:nvSpPr>
        <p:spPr>
          <a:xfrm rot="17286600">
            <a:off x="3637440" y="6028200"/>
            <a:ext cx="522360" cy="5619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黄惠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4140360" y="6308640"/>
            <a:ext cx="273672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替莫                      恩曼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4"/>
          <p:cNvSpPr/>
          <p:nvPr/>
        </p:nvSpPr>
        <p:spPr>
          <a:xfrm>
            <a:off x="4211640" y="4941720"/>
            <a:ext cx="50472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 m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5"/>
          <p:cNvSpPr/>
          <p:nvPr/>
        </p:nvSpPr>
        <p:spPr>
          <a:xfrm rot="18413400">
            <a:off x="2458080" y="4223160"/>
            <a:ext cx="593640" cy="1119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诗篇 缪蔻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6"/>
          <p:cNvSpPr/>
          <p:nvPr/>
        </p:nvSpPr>
        <p:spPr>
          <a:xfrm rot="3710400">
            <a:off x="2876040" y="3584520"/>
            <a:ext cx="23796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桑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 rot="2437200">
            <a:off x="3949200" y="4411440"/>
            <a:ext cx="2383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 rot="185400">
            <a:off x="3989520" y="2131560"/>
            <a:ext cx="288720" cy="935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艾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敦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059280" y="2997360"/>
            <a:ext cx="720720" cy="50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苞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3059280" y="2133720"/>
            <a:ext cx="57600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1979640" y="1844640"/>
            <a:ext cx="79200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克斯菲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1979640" y="3573360"/>
            <a:ext cx="57636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4"/>
          <p:cNvSpPr/>
          <p:nvPr/>
        </p:nvSpPr>
        <p:spPr>
          <a:xfrm rot="13380600">
            <a:off x="3995280" y="3428640"/>
            <a:ext cx="83988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1979640" y="2133720"/>
            <a:ext cx="792000" cy="1224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风  海兰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,M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斯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歌蒂诗  蓝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6"/>
          <p:cNvSpPr/>
          <p:nvPr/>
        </p:nvSpPr>
        <p:spPr>
          <a:xfrm rot="17306400">
            <a:off x="3079080" y="5856480"/>
            <a:ext cx="522360" cy="5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方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维多利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雅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戈洛瑞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4716360" y="4941720"/>
            <a:ext cx="72072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布 醉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西 戴布拉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435640" y="4941720"/>
            <a:ext cx="577800" cy="64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宗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9"/>
          <p:cNvSpPr/>
          <p:nvPr/>
        </p:nvSpPr>
        <p:spPr>
          <a:xfrm rot="2298000">
            <a:off x="3180960" y="4927680"/>
            <a:ext cx="4320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LA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0"/>
          <p:cNvSpPr/>
          <p:nvPr/>
        </p:nvSpPr>
        <p:spPr>
          <a:xfrm>
            <a:off x="4500720" y="5734080"/>
            <a:ext cx="57600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纤边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 rot="19006200">
            <a:off x="611280" y="620280"/>
            <a:ext cx="1008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476360" y="189000"/>
            <a:ext cx="18716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诗兰    卡莎米亚  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 rot="21426000">
            <a:off x="750960" y="1268280"/>
            <a:ext cx="792000" cy="180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劳斯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报喜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 rot="21448800">
            <a:off x="826920" y="3068640"/>
            <a:ext cx="129708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浪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48800">
            <a:off x="1041480" y="3639960"/>
            <a:ext cx="1079280" cy="7938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 rot="2434200">
            <a:off x="1746000" y="4842000"/>
            <a:ext cx="158436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古柏       杰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3632040" y="5591160"/>
            <a:ext cx="1443240" cy="1077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朗维高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昆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7380360" y="3860640"/>
            <a:ext cx="718920" cy="201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堡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可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5724360" y="5661000"/>
            <a:ext cx="1656000" cy="10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丹顿   纳巴罗   蔓哈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4859280" y="4508640"/>
            <a:ext cx="50472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 rot="2283000">
            <a:off x="2700000" y="3644640"/>
            <a:ext cx="4255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 rot="21426000">
            <a:off x="1674720" y="1052280"/>
            <a:ext cx="432000" cy="1152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九牧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 rot="21418200">
            <a:off x="2271240" y="977760"/>
            <a:ext cx="498600" cy="165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洛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威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鳄鱼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基纳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 rot="21426000">
            <a:off x="3419640" y="980640"/>
            <a:ext cx="593640" cy="187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罗尼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 rot="21426000">
            <a:off x="3976560" y="977760"/>
            <a:ext cx="5241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皮尔卡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 rot="21426000">
            <a:off x="4500720" y="1413000"/>
            <a:ext cx="34920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4498920" y="549360"/>
            <a:ext cx="1728720" cy="46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雅 鄂尔多斯 金利来 歌帝 猫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6227640" y="544680"/>
            <a:ext cx="368280" cy="115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豪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宜而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5003640" y="1341360"/>
            <a:ext cx="863640" cy="358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瑞思 爱慕俊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5003640" y="1700280"/>
            <a:ext cx="576360" cy="431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沙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5003640" y="2133720"/>
            <a:ext cx="863640" cy="503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萨巴帝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5435640" y="2637000"/>
            <a:ext cx="1008000" cy="647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8"/>
          <p:cNvSpPr/>
          <p:nvPr/>
        </p:nvSpPr>
        <p:spPr>
          <a:xfrm rot="17433000">
            <a:off x="5152320" y="3308760"/>
            <a:ext cx="677880" cy="3492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卡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292720" y="3789360"/>
            <a:ext cx="1873080" cy="506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麦卡拉               辛柏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5073480" y="6307200"/>
            <a:ext cx="648000" cy="36180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 rot="2744400">
            <a:off x="3594960" y="2980440"/>
            <a:ext cx="27792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ippo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派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1"/>
          <p:cNvSpPr/>
          <p:nvPr/>
        </p:nvSpPr>
        <p:spPr>
          <a:xfrm rot="1994400">
            <a:off x="4591080" y="3874680"/>
            <a:ext cx="334800" cy="65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捷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2"/>
          <p:cNvSpPr/>
          <p:nvPr/>
        </p:nvSpPr>
        <p:spPr>
          <a:xfrm rot="13380600">
            <a:off x="4642920" y="2781000"/>
            <a:ext cx="83988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3"/>
          <p:cNvSpPr/>
          <p:nvPr/>
        </p:nvSpPr>
        <p:spPr>
          <a:xfrm rot="21433200">
            <a:off x="2771280" y="980640"/>
            <a:ext cx="498600" cy="1656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雷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马世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4"/>
          <p:cNvSpPr/>
          <p:nvPr/>
        </p:nvSpPr>
        <p:spPr>
          <a:xfrm rot="21448800">
            <a:off x="2338200" y="2630160"/>
            <a:ext cx="100800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奴迪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5364000" y="4508640"/>
            <a:ext cx="129564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野猡  恺王 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仕 雅戈尔奥克杰克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6659640" y="4508640"/>
            <a:ext cx="504720" cy="795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 rot="2253600">
            <a:off x="2997360" y="4092480"/>
            <a:ext cx="9190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奥纳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8"/>
          <p:cNvSpPr/>
          <p:nvPr/>
        </p:nvSpPr>
        <p:spPr>
          <a:xfrm rot="2283000">
            <a:off x="3779640" y="4508640"/>
            <a:ext cx="4251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 rot="21392400">
            <a:off x="1619280" y="836280"/>
            <a:ext cx="122400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卡帕     新百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 rot="21392400">
            <a:off x="757080" y="318600"/>
            <a:ext cx="849600" cy="116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跑步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rot="15992400">
            <a:off x="214920" y="871920"/>
            <a:ext cx="647640" cy="576000"/>
          </a:xfrm>
          <a:prstGeom prst="rtTriangle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 rot="21392400">
            <a:off x="393480" y="1476360"/>
            <a:ext cx="631800" cy="116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匡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 rot="21392400">
            <a:off x="466560" y="2612520"/>
            <a:ext cx="1222560" cy="1163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李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 rot="18650400">
            <a:off x="1581840" y="4371120"/>
            <a:ext cx="834840" cy="2023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家好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 rot="21392400">
            <a:off x="539640" y="3762360"/>
            <a:ext cx="1211400" cy="888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耐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5076720" y="5734080"/>
            <a:ext cx="1581120" cy="880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马克华菲 维尼熊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ncy.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6659640" y="4221000"/>
            <a:ext cx="560160" cy="172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DAY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时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211640" y="4797360"/>
            <a:ext cx="43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4572000" y="4005360"/>
            <a:ext cx="2087640" cy="57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斯莱德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6"/>
          <p:cNvSpPr/>
          <p:nvPr/>
        </p:nvSpPr>
        <p:spPr>
          <a:xfrm rot="13380600">
            <a:off x="4140360" y="3141360"/>
            <a:ext cx="839520" cy="3492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贝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莱克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 rot="21392400">
            <a:off x="2901960" y="1341360"/>
            <a:ext cx="1019160" cy="484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添柏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 rot="21397800">
            <a:off x="3924000" y="1166400"/>
            <a:ext cx="151128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 rot="21472200">
            <a:off x="5003640" y="1773360"/>
            <a:ext cx="93528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2"/>
          <p:cNvSpPr/>
          <p:nvPr/>
        </p:nvSpPr>
        <p:spPr>
          <a:xfrm rot="10800000">
            <a:off x="4859280" y="2636640"/>
            <a:ext cx="866880" cy="93636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 rot="21392400">
            <a:off x="4498920" y="1833120"/>
            <a:ext cx="506520" cy="1017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乐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杰克琼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3"/>
          <p:cNvSpPr/>
          <p:nvPr/>
        </p:nvSpPr>
        <p:spPr>
          <a:xfrm rot="21392400">
            <a:off x="1252440" y="1627200"/>
            <a:ext cx="4334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登路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4"/>
          <p:cNvSpPr/>
          <p:nvPr/>
        </p:nvSpPr>
        <p:spPr>
          <a:xfrm rot="21392400">
            <a:off x="1907640" y="1547280"/>
            <a:ext cx="822600" cy="2025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乔丹 布来亚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狼爪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探路者   始祖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乐斯菲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6"/>
          <p:cNvSpPr/>
          <p:nvPr/>
        </p:nvSpPr>
        <p:spPr>
          <a:xfrm rot="5125200">
            <a:off x="3560760" y="2849760"/>
            <a:ext cx="436680" cy="57492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 rot="21392400">
            <a:off x="2933640" y="1986120"/>
            <a:ext cx="577800" cy="1369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达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7"/>
          <p:cNvSpPr/>
          <p:nvPr/>
        </p:nvSpPr>
        <p:spPr>
          <a:xfrm rot="21392400">
            <a:off x="3997080" y="1976400"/>
            <a:ext cx="290520" cy="87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8"/>
          <p:cNvSpPr/>
          <p:nvPr/>
        </p:nvSpPr>
        <p:spPr>
          <a:xfrm rot="18531600">
            <a:off x="2892960" y="4350240"/>
            <a:ext cx="608040" cy="1181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O MO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 rot="2095200">
            <a:off x="4844520" y="3328920"/>
            <a:ext cx="43344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-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0"/>
          <p:cNvSpPr/>
          <p:nvPr/>
        </p:nvSpPr>
        <p:spPr>
          <a:xfrm rot="2095200">
            <a:off x="4000320" y="4145040"/>
            <a:ext cx="27756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行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1"/>
          <p:cNvSpPr/>
          <p:nvPr/>
        </p:nvSpPr>
        <p:spPr>
          <a:xfrm>
            <a:off x="5437080" y="1125360"/>
            <a:ext cx="503280" cy="654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特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4643280" y="4797360"/>
            <a:ext cx="43200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5076720" y="4797360"/>
            <a:ext cx="93528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N’s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高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米奇   萍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5"/>
          <p:cNvSpPr/>
          <p:nvPr/>
        </p:nvSpPr>
        <p:spPr>
          <a:xfrm>
            <a:off x="6012000" y="4797360"/>
            <a:ext cx="4316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.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6"/>
          <p:cNvSpPr/>
          <p:nvPr/>
        </p:nvSpPr>
        <p:spPr>
          <a:xfrm>
            <a:off x="3203640" y="5734080"/>
            <a:ext cx="1297080" cy="880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+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江南布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7"/>
          <p:cNvSpPr/>
          <p:nvPr/>
        </p:nvSpPr>
        <p:spPr>
          <a:xfrm rot="18531600">
            <a:off x="2158920" y="4041360"/>
            <a:ext cx="608040" cy="677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5"/>
          <p:cNvSpPr/>
          <p:nvPr/>
        </p:nvSpPr>
        <p:spPr>
          <a:xfrm rot="13380600">
            <a:off x="3780000" y="3212640"/>
            <a:ext cx="839520" cy="349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元诏瓷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内野毛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771640" y="1389240"/>
            <a:ext cx="2446560" cy="518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舒逸               富安娜              缇莱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219640" y="1413000"/>
            <a:ext cx="719280" cy="936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佳丽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140360" y="2276640"/>
            <a:ext cx="431640" cy="79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恐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PR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4140360" y="2060640"/>
            <a:ext cx="792000" cy="217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百思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635280" y="2349360"/>
            <a:ext cx="289080" cy="57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皇家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之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祥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厨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降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843280" y="2133720"/>
            <a:ext cx="433440" cy="79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菲姐意大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生活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2843280" y="2924280"/>
            <a:ext cx="792000" cy="433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Q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 rot="21392400">
            <a:off x="971640" y="1699920"/>
            <a:ext cx="311040" cy="930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迈克大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欧米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日精电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 rot="21392400">
            <a:off x="1314000" y="1650600"/>
            <a:ext cx="287280" cy="936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世保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宾特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沁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全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水宜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 rot="21352800">
            <a:off x="2044440" y="1695240"/>
            <a:ext cx="365040" cy="799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伟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迪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 rot="21392400">
            <a:off x="1260360" y="186840"/>
            <a:ext cx="285840" cy="134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史密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 rot="21392400">
            <a:off x="1546200" y="974520"/>
            <a:ext cx="1290600" cy="43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 松下 三星 尼康 佳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 rot="21392400">
            <a:off x="549000" y="1626840"/>
            <a:ext cx="360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索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 rot="21392400">
            <a:off x="902880" y="186840"/>
            <a:ext cx="211320" cy="1074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華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阿里斯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 rot="21374400">
            <a:off x="969840" y="2706480"/>
            <a:ext cx="648000" cy="43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集合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1"/>
          <p:cNvSpPr/>
          <p:nvPr/>
        </p:nvSpPr>
        <p:spPr>
          <a:xfrm rot="21374400">
            <a:off x="2044800" y="2628720"/>
            <a:ext cx="649080" cy="366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飞利浦    九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2"/>
          <p:cNvSpPr/>
          <p:nvPr/>
        </p:nvSpPr>
        <p:spPr>
          <a:xfrm rot="21392400">
            <a:off x="1612440" y="2707920"/>
            <a:ext cx="36036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SE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苹果体验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3"/>
          <p:cNvSpPr/>
          <p:nvPr/>
        </p:nvSpPr>
        <p:spPr>
          <a:xfrm rot="21374400">
            <a:off x="971640" y="3435120"/>
            <a:ext cx="1074600" cy="496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恋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w in pa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 rot="19882800">
            <a:off x="509760" y="4086000"/>
            <a:ext cx="64764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小阿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5"/>
          <p:cNvSpPr/>
          <p:nvPr/>
        </p:nvSpPr>
        <p:spPr>
          <a:xfrm rot="19882800">
            <a:off x="758520" y="4395600"/>
            <a:ext cx="92232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6"/>
          <p:cNvSpPr/>
          <p:nvPr/>
        </p:nvSpPr>
        <p:spPr>
          <a:xfrm rot="18877800">
            <a:off x="1573920" y="4843800"/>
            <a:ext cx="922320" cy="1432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芝麻开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.O.I BIT’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7"/>
          <p:cNvSpPr/>
          <p:nvPr/>
        </p:nvSpPr>
        <p:spPr>
          <a:xfrm rot="18192600">
            <a:off x="2568240" y="5992560"/>
            <a:ext cx="92232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8"/>
          <p:cNvSpPr/>
          <p:nvPr/>
        </p:nvSpPr>
        <p:spPr>
          <a:xfrm rot="1589400">
            <a:off x="3059280" y="6424560"/>
            <a:ext cx="433080" cy="43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孕妇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3564000" y="5877000"/>
            <a:ext cx="360360" cy="981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丽婴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圣宝度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十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4788000" y="6093000"/>
            <a:ext cx="1439640" cy="57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珍贝   皮尔卡丹   帕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1"/>
          <p:cNvSpPr/>
          <p:nvPr/>
        </p:nvSpPr>
        <p:spPr>
          <a:xfrm>
            <a:off x="6227640" y="4221000"/>
            <a:ext cx="576360" cy="180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加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鄂尔多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惠得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2"/>
          <p:cNvSpPr/>
          <p:nvPr/>
        </p:nvSpPr>
        <p:spPr>
          <a:xfrm>
            <a:off x="4572000" y="4221000"/>
            <a:ext cx="165564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恒源祥      鹿王       鲨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4427640" y="4869000"/>
            <a:ext cx="129672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稻草人  鄂尔多斯奥群 皮皮狗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老人头  法诗菲  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4"/>
          <p:cNvSpPr/>
          <p:nvPr/>
        </p:nvSpPr>
        <p:spPr>
          <a:xfrm>
            <a:off x="5076720" y="5445000"/>
            <a:ext cx="287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"/>
          <p:cNvSpPr/>
          <p:nvPr/>
        </p:nvSpPr>
        <p:spPr>
          <a:xfrm>
            <a:off x="3995640" y="5445000"/>
            <a:ext cx="43200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依柏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狄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6"/>
          <p:cNvSpPr/>
          <p:nvPr/>
        </p:nvSpPr>
        <p:spPr>
          <a:xfrm rot="21374400">
            <a:off x="2131560" y="3284640"/>
            <a:ext cx="56844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三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7"/>
          <p:cNvSpPr/>
          <p:nvPr/>
        </p:nvSpPr>
        <p:spPr>
          <a:xfrm rot="5125200">
            <a:off x="2806920" y="3462120"/>
            <a:ext cx="360360" cy="57600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8"/>
          <p:cNvSpPr/>
          <p:nvPr/>
        </p:nvSpPr>
        <p:spPr>
          <a:xfrm rot="19882800">
            <a:off x="1835280" y="4149360"/>
            <a:ext cx="415800" cy="439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迪士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爱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9"/>
          <p:cNvSpPr/>
          <p:nvPr/>
        </p:nvSpPr>
        <p:spPr>
          <a:xfrm rot="18795600">
            <a:off x="2194920" y="4581720"/>
            <a:ext cx="415800" cy="439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西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路易迪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0"/>
          <p:cNvSpPr/>
          <p:nvPr/>
        </p:nvSpPr>
        <p:spPr>
          <a:xfrm rot="18694800">
            <a:off x="2714760" y="4968000"/>
            <a:ext cx="416160" cy="649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米菲 格林米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奔仔   纽巴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1"/>
          <p:cNvSpPr/>
          <p:nvPr/>
        </p:nvSpPr>
        <p:spPr>
          <a:xfrm rot="16200000">
            <a:off x="3431520" y="5361480"/>
            <a:ext cx="415800" cy="43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兄弟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童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2"/>
          <p:cNvSpPr/>
          <p:nvPr/>
        </p:nvSpPr>
        <p:spPr>
          <a:xfrm rot="18703800">
            <a:off x="2788920" y="3944520"/>
            <a:ext cx="360360" cy="14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骆驼 可爱秀 常春藤 水孩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3"/>
          <p:cNvSpPr/>
          <p:nvPr/>
        </p:nvSpPr>
        <p:spPr>
          <a:xfrm rot="2002800">
            <a:off x="3780000" y="4005000"/>
            <a:ext cx="225360" cy="96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费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托马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芭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银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仕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启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4"/>
          <p:cNvSpPr/>
          <p:nvPr/>
        </p:nvSpPr>
        <p:spPr>
          <a:xfrm rot="1887600">
            <a:off x="4000320" y="4271760"/>
            <a:ext cx="288720" cy="961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读书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可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伟易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5"/>
          <p:cNvSpPr/>
          <p:nvPr/>
        </p:nvSpPr>
        <p:spPr>
          <a:xfrm>
            <a:off x="4643280" y="2924280"/>
            <a:ext cx="720720" cy="793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罗莱家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喜来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6"/>
          <p:cNvSpPr/>
          <p:nvPr/>
        </p:nvSpPr>
        <p:spPr>
          <a:xfrm>
            <a:off x="4932360" y="2205000"/>
            <a:ext cx="216000" cy="432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7"/>
          <p:cNvSpPr/>
          <p:nvPr/>
        </p:nvSpPr>
        <p:spPr>
          <a:xfrm>
            <a:off x="3276720" y="2133720"/>
            <a:ext cx="6476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家居饰品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8"/>
          <p:cNvSpPr/>
          <p:nvPr/>
        </p:nvSpPr>
        <p:spPr>
          <a:xfrm rot="21392400">
            <a:off x="2409840" y="1697040"/>
            <a:ext cx="293760" cy="799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贝尔莱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利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美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凯伍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德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9"/>
          <p:cNvSpPr/>
          <p:nvPr/>
        </p:nvSpPr>
        <p:spPr>
          <a:xfrm rot="21392400">
            <a:off x="1617480" y="1699920"/>
            <a:ext cx="28728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博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福玛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万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象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思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诺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虎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苏泊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兰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0"/>
          <p:cNvSpPr/>
          <p:nvPr/>
        </p:nvSpPr>
        <p:spPr>
          <a:xfrm rot="21374400">
            <a:off x="468000" y="1196640"/>
            <a:ext cx="36036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东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1"/>
          <p:cNvSpPr/>
          <p:nvPr/>
        </p:nvSpPr>
        <p:spPr>
          <a:xfrm rot="21374400">
            <a:off x="610920" y="685440"/>
            <a:ext cx="287280" cy="425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普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2"/>
          <p:cNvSpPr/>
          <p:nvPr/>
        </p:nvSpPr>
        <p:spPr>
          <a:xfrm rot="21374400">
            <a:off x="899640" y="0"/>
            <a:ext cx="582840" cy="260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格力 三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3"/>
          <p:cNvSpPr/>
          <p:nvPr/>
        </p:nvSpPr>
        <p:spPr>
          <a:xfrm rot="21374400">
            <a:off x="682560" y="328680"/>
            <a:ext cx="216000" cy="352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4"/>
          <p:cNvSpPr/>
          <p:nvPr/>
        </p:nvSpPr>
        <p:spPr>
          <a:xfrm rot="21374400">
            <a:off x="2050560" y="2997360"/>
            <a:ext cx="649440" cy="215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亚欧精品手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5"/>
          <p:cNvSpPr/>
          <p:nvPr/>
        </p:nvSpPr>
        <p:spPr>
          <a:xfrm>
            <a:off x="3924360" y="5877000"/>
            <a:ext cx="360360" cy="72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6"/>
          <p:cNvSpPr/>
          <p:nvPr/>
        </p:nvSpPr>
        <p:spPr>
          <a:xfrm>
            <a:off x="5724360" y="4869000"/>
            <a:ext cx="43200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金利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7"/>
          <p:cNvSpPr/>
          <p:nvPr/>
        </p:nvSpPr>
        <p:spPr>
          <a:xfrm>
            <a:off x="4427640" y="5589720"/>
            <a:ext cx="57600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梦特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8"/>
          <p:cNvSpPr/>
          <p:nvPr/>
        </p:nvSpPr>
        <p:spPr>
          <a:xfrm>
            <a:off x="5364000" y="5445000"/>
            <a:ext cx="43200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绒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9"/>
          <p:cNvSpPr/>
          <p:nvPr/>
        </p:nvSpPr>
        <p:spPr>
          <a:xfrm>
            <a:off x="5364000" y="5661000"/>
            <a:ext cx="43200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天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0"/>
          <p:cNvSpPr/>
          <p:nvPr/>
        </p:nvSpPr>
        <p:spPr>
          <a:xfrm>
            <a:off x="5796000" y="5445000"/>
            <a:ext cx="287280" cy="43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兆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0:17:53Z</dcterms:created>
  <dc:creator>微软用户</dc:creator>
  <dc:description/>
  <dc:language>en-US</dc:language>
  <cp:lastModifiedBy>oempc</cp:lastModifiedBy>
  <dcterms:modified xsi:type="dcterms:W3CDTF">2013-03-20T03:57:23Z</dcterms:modified>
  <cp:revision>33</cp:revision>
  <dc:subject/>
  <dc:title>幻灯片 1</dc:title>
</cp:coreProperties>
</file>