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076A-3CCD-4842-8DC2-CD9B06D57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6EDA-A66F-4D69-95AD-9867E069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49D7-7CDA-43F2-9A56-7ABE91956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FBD9-2D5F-4B5C-9E49-C01203A04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175A-AC7B-452E-9987-FC658F25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404E-CF88-4DE4-B04A-54754FBB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3B1F-6CB5-4849-A70D-4D695877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DA11-27DE-46D7-9262-F5AEB85A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116B-2511-409A-B15F-B9807E79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3973-81DE-4A19-B31C-6E13396B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0D9B-0847-4BD7-9881-8EDB24D4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3819-57ED-404F-9147-1A7ADC60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5A67-3D1E-4972-9FB2-AA8785CA7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2771640" y="5805360"/>
            <a:ext cx="144000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戴俪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4211640" y="5805360"/>
            <a:ext cx="100800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周大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1"/>
          <p:cNvSpPr/>
          <p:nvPr/>
        </p:nvSpPr>
        <p:spPr>
          <a:xfrm>
            <a:off x="1476360" y="5734080"/>
            <a:ext cx="129528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卡西欧  雷达 宝齐莱 浪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179280" y="5084640"/>
            <a:ext cx="647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高丝 理肤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3"/>
          <p:cNvSpPr/>
          <p:nvPr/>
        </p:nvSpPr>
        <p:spPr>
          <a:xfrm rot="2413800">
            <a:off x="684000" y="5390640"/>
            <a:ext cx="790560" cy="26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高夫 薇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1403280" y="5084640"/>
            <a:ext cx="2232000" cy="4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天梭       汉密尔顿     雪铁纳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美度    飞亚达    天王    罗西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539640" y="4508640"/>
            <a:ext cx="194472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欧莱雅    佰草集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Za 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自然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627280" y="4581360"/>
            <a:ext cx="50472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周大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3203640" y="4581360"/>
            <a:ext cx="50472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天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龙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611280" y="4005360"/>
            <a:ext cx="273672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欧珀莱 美宝莲 泊美 悠莱 蝶妆 露华浓 嘉媚乐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9"/>
          <p:cNvSpPr/>
          <p:nvPr/>
        </p:nvSpPr>
        <p:spPr>
          <a:xfrm>
            <a:off x="3348000" y="4005360"/>
            <a:ext cx="287280" cy="43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香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0"/>
          <p:cNvSpPr/>
          <p:nvPr/>
        </p:nvSpPr>
        <p:spPr>
          <a:xfrm>
            <a:off x="755640" y="3429000"/>
            <a:ext cx="50328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SS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1"/>
          <p:cNvSpPr/>
          <p:nvPr/>
        </p:nvSpPr>
        <p:spPr>
          <a:xfrm rot="16977000">
            <a:off x="-481680" y="1850040"/>
            <a:ext cx="2433600" cy="431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百丽                接吻猫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2"/>
          <p:cNvSpPr/>
          <p:nvPr/>
        </p:nvSpPr>
        <p:spPr>
          <a:xfrm rot="602400">
            <a:off x="179280" y="3860640"/>
            <a:ext cx="25236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蒂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 rot="658800">
            <a:off x="190080" y="3284280"/>
            <a:ext cx="432000" cy="56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L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4"/>
          <p:cNvSpPr/>
          <p:nvPr/>
        </p:nvSpPr>
        <p:spPr>
          <a:xfrm rot="1485000">
            <a:off x="1187280" y="907920"/>
            <a:ext cx="2433960" cy="432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思加图          米奥         哈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5"/>
          <p:cNvSpPr/>
          <p:nvPr/>
        </p:nvSpPr>
        <p:spPr>
          <a:xfrm rot="1204800">
            <a:off x="1116000" y="1341000"/>
            <a:ext cx="503280" cy="16509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富贵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森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千百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6"/>
          <p:cNvSpPr/>
          <p:nvPr/>
        </p:nvSpPr>
        <p:spPr>
          <a:xfrm rot="1086000">
            <a:off x="1692360" y="1557000"/>
            <a:ext cx="503280" cy="16509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皮尔卡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她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7"/>
          <p:cNvSpPr/>
          <p:nvPr/>
        </p:nvSpPr>
        <p:spPr>
          <a:xfrm rot="1485000">
            <a:off x="2309400" y="2080800"/>
            <a:ext cx="1584360" cy="755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雨中雨    达芙妮    伊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8"/>
          <p:cNvSpPr/>
          <p:nvPr/>
        </p:nvSpPr>
        <p:spPr>
          <a:xfrm rot="1485000">
            <a:off x="3870000" y="2935080"/>
            <a:ext cx="1944720" cy="572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索菲亚          羚羊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9"/>
          <p:cNvSpPr/>
          <p:nvPr/>
        </p:nvSpPr>
        <p:spPr>
          <a:xfrm rot="1485000">
            <a:off x="5776560" y="3768840"/>
            <a:ext cx="1440000" cy="5270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奥卡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0"/>
          <p:cNvSpPr/>
          <p:nvPr/>
        </p:nvSpPr>
        <p:spPr>
          <a:xfrm rot="1485000">
            <a:off x="4782600" y="2519280"/>
            <a:ext cx="3532320" cy="936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素人                   雅乐士            路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1"/>
          <p:cNvSpPr/>
          <p:nvPr/>
        </p:nvSpPr>
        <p:spPr>
          <a:xfrm rot="1485000">
            <a:off x="4220640" y="2196720"/>
            <a:ext cx="576360" cy="291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围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2"/>
          <p:cNvSpPr/>
          <p:nvPr/>
        </p:nvSpPr>
        <p:spPr>
          <a:xfrm rot="1485000">
            <a:off x="3678120" y="1719360"/>
            <a:ext cx="505080" cy="527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同仁眼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3"/>
          <p:cNvSpPr/>
          <p:nvPr/>
        </p:nvSpPr>
        <p:spPr>
          <a:xfrm rot="1485000">
            <a:off x="7635600" y="4681440"/>
            <a:ext cx="1403280" cy="8208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同仁堂药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5940360" y="4653000"/>
            <a:ext cx="136836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女人缘    贝洛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5"/>
          <p:cNvSpPr/>
          <p:nvPr/>
        </p:nvSpPr>
        <p:spPr>
          <a:xfrm>
            <a:off x="6012000" y="5516640"/>
            <a:ext cx="1512720" cy="2174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恋中恋   千百莉   特丽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6"/>
          <p:cNvSpPr/>
          <p:nvPr/>
        </p:nvSpPr>
        <p:spPr>
          <a:xfrm>
            <a:off x="5796000" y="5516640"/>
            <a:ext cx="216000" cy="431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珊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7"/>
          <p:cNvSpPr/>
          <p:nvPr/>
        </p:nvSpPr>
        <p:spPr>
          <a:xfrm>
            <a:off x="5435640" y="4221000"/>
            <a:ext cx="360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黄金历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8"/>
          <p:cNvSpPr/>
          <p:nvPr/>
        </p:nvSpPr>
        <p:spPr>
          <a:xfrm>
            <a:off x="5435640" y="4653000"/>
            <a:ext cx="360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千禧之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9"/>
          <p:cNvSpPr/>
          <p:nvPr/>
        </p:nvSpPr>
        <p:spPr>
          <a:xfrm>
            <a:off x="5435640" y="5229360"/>
            <a:ext cx="360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中国黄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0"/>
          <p:cNvSpPr/>
          <p:nvPr/>
        </p:nvSpPr>
        <p:spPr>
          <a:xfrm rot="1029000">
            <a:off x="3809520" y="3498840"/>
            <a:ext cx="463680" cy="946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天美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1"/>
          <p:cNvSpPr/>
          <p:nvPr/>
        </p:nvSpPr>
        <p:spPr>
          <a:xfrm rot="974400">
            <a:off x="4436640" y="3789000"/>
            <a:ext cx="432000" cy="647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馨宠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2"/>
          <p:cNvSpPr/>
          <p:nvPr/>
        </p:nvSpPr>
        <p:spPr>
          <a:xfrm rot="1075800">
            <a:off x="4932000" y="3933360"/>
            <a:ext cx="43164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莱思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3"/>
          <p:cNvSpPr/>
          <p:nvPr/>
        </p:nvSpPr>
        <p:spPr>
          <a:xfrm>
            <a:off x="4859280" y="4653000"/>
            <a:ext cx="4334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乾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金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4"/>
          <p:cNvSpPr/>
          <p:nvPr/>
        </p:nvSpPr>
        <p:spPr>
          <a:xfrm>
            <a:off x="4356000" y="4653000"/>
            <a:ext cx="432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铭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珠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5"/>
          <p:cNvSpPr/>
          <p:nvPr/>
        </p:nvSpPr>
        <p:spPr>
          <a:xfrm>
            <a:off x="3851280" y="4653000"/>
            <a:ext cx="4334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瑞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钻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6"/>
          <p:cNvSpPr/>
          <p:nvPr/>
        </p:nvSpPr>
        <p:spPr>
          <a:xfrm>
            <a:off x="3851280" y="5157720"/>
            <a:ext cx="4334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翡翠物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7"/>
          <p:cNvSpPr/>
          <p:nvPr/>
        </p:nvSpPr>
        <p:spPr>
          <a:xfrm>
            <a:off x="4427640" y="5157720"/>
            <a:ext cx="360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莲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珠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8"/>
          <p:cNvSpPr/>
          <p:nvPr/>
        </p:nvSpPr>
        <p:spPr>
          <a:xfrm>
            <a:off x="4859280" y="5157720"/>
            <a:ext cx="4334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莲七钻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250920" y="476280"/>
            <a:ext cx="151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鲨鱼   卡丹路  帕加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 rot="16466400">
            <a:off x="-288720" y="1520640"/>
            <a:ext cx="151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袋鼠    威尔逊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6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1763640" y="476280"/>
            <a:ext cx="3888000" cy="576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                           b+ab                       VERO MODA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5724360" y="679320"/>
            <a:ext cx="1006560" cy="5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6732720" y="907920"/>
            <a:ext cx="576000" cy="122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纳帕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 rot="1470600">
            <a:off x="7097400" y="2201400"/>
            <a:ext cx="1295280" cy="459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ezco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5867280" y="1484280"/>
            <a:ext cx="576360" cy="100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艾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4859280" y="1197000"/>
            <a:ext cx="1008000" cy="647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欧尚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4859280" y="1844640"/>
            <a:ext cx="1008000" cy="647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ac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4"/>
          <p:cNvSpPr/>
          <p:nvPr/>
        </p:nvSpPr>
        <p:spPr>
          <a:xfrm rot="1367400">
            <a:off x="6784560" y="2865600"/>
            <a:ext cx="1454040" cy="647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5"/>
          <p:cNvSpPr/>
          <p:nvPr/>
        </p:nvSpPr>
        <p:spPr>
          <a:xfrm rot="1367400">
            <a:off x="6627600" y="3303360"/>
            <a:ext cx="720720" cy="41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亦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6"/>
          <p:cNvSpPr/>
          <p:nvPr/>
        </p:nvSpPr>
        <p:spPr>
          <a:xfrm rot="1367400">
            <a:off x="7277040" y="3580920"/>
            <a:ext cx="720720" cy="4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 go 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7"/>
          <p:cNvSpPr/>
          <p:nvPr/>
        </p:nvSpPr>
        <p:spPr>
          <a:xfrm rot="1367400">
            <a:off x="6485040" y="4013280"/>
            <a:ext cx="145404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8"/>
          <p:cNvSpPr/>
          <p:nvPr/>
        </p:nvSpPr>
        <p:spPr>
          <a:xfrm rot="1367400">
            <a:off x="6300360" y="4437000"/>
            <a:ext cx="1454040" cy="4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欧蒂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 rot="1367400">
            <a:off x="4792320" y="3687840"/>
            <a:ext cx="576360" cy="41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爱美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 rot="1367400">
            <a:off x="5293800" y="3919320"/>
            <a:ext cx="64800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史努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 rot="777600">
            <a:off x="8040600" y="3204720"/>
            <a:ext cx="776520" cy="3645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艾格周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ZZ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 rot="843600">
            <a:off x="7308360" y="5589720"/>
            <a:ext cx="412920" cy="12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6"/>
          <p:cNvSpPr/>
          <p:nvPr/>
        </p:nvSpPr>
        <p:spPr>
          <a:xfrm rot="1544400">
            <a:off x="4993920" y="4809960"/>
            <a:ext cx="576360" cy="908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欧时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7"/>
          <p:cNvSpPr/>
          <p:nvPr/>
        </p:nvSpPr>
        <p:spPr>
          <a:xfrm rot="1519800">
            <a:off x="5412960" y="5555880"/>
            <a:ext cx="881280" cy="492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pr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8"/>
          <p:cNvSpPr/>
          <p:nvPr/>
        </p:nvSpPr>
        <p:spPr>
          <a:xfrm rot="1544400">
            <a:off x="6378120" y="5356080"/>
            <a:ext cx="892440" cy="1231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维尼小熊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9"/>
          <p:cNvSpPr/>
          <p:nvPr/>
        </p:nvSpPr>
        <p:spPr>
          <a:xfrm rot="1594800">
            <a:off x="1309680" y="3247560"/>
            <a:ext cx="2637000" cy="1109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 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拉夏贝尔    高歌   阿桑娜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I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0"/>
          <p:cNvSpPr/>
          <p:nvPr/>
        </p:nvSpPr>
        <p:spPr>
          <a:xfrm rot="1367400">
            <a:off x="880920" y="2588760"/>
            <a:ext cx="576360" cy="1062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猫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1"/>
          <p:cNvSpPr/>
          <p:nvPr/>
        </p:nvSpPr>
        <p:spPr>
          <a:xfrm rot="1519800">
            <a:off x="1671120" y="2346480"/>
            <a:ext cx="1841760" cy="631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米奇        阿依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2"/>
          <p:cNvSpPr/>
          <p:nvPr/>
        </p:nvSpPr>
        <p:spPr>
          <a:xfrm rot="1367400">
            <a:off x="3627360" y="2935080"/>
            <a:ext cx="1068480" cy="72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万斯     阿迪达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3"/>
          <p:cNvSpPr/>
          <p:nvPr/>
        </p:nvSpPr>
        <p:spPr>
          <a:xfrm rot="309600">
            <a:off x="887040" y="1195200"/>
            <a:ext cx="647640" cy="10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苹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卡迪乐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鳄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费恩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沃尔莎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宾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4"/>
          <p:cNvSpPr/>
          <p:nvPr/>
        </p:nvSpPr>
        <p:spPr>
          <a:xfrm>
            <a:off x="1763640" y="1197000"/>
            <a:ext cx="1152720" cy="647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拉夏贝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5"/>
          <p:cNvSpPr/>
          <p:nvPr/>
        </p:nvSpPr>
        <p:spPr>
          <a:xfrm>
            <a:off x="3059280" y="1197000"/>
            <a:ext cx="57600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曼诺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6"/>
          <p:cNvSpPr/>
          <p:nvPr/>
        </p:nvSpPr>
        <p:spPr>
          <a:xfrm>
            <a:off x="3059280" y="1557360"/>
            <a:ext cx="57600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蒙奇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7"/>
          <p:cNvSpPr/>
          <p:nvPr/>
        </p:nvSpPr>
        <p:spPr>
          <a:xfrm>
            <a:off x="3708360" y="1197000"/>
            <a:ext cx="1008000" cy="1295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太平鸟     歌莉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 rot="801000">
            <a:off x="8044920" y="3312720"/>
            <a:ext cx="644760" cy="714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美之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 rot="801000">
            <a:off x="7884720" y="4025520"/>
            <a:ext cx="644400" cy="714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NYOU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 rot="801000">
            <a:off x="7740360" y="4744800"/>
            <a:ext cx="644400" cy="714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玫而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 rot="1327200">
            <a:off x="7073640" y="5403960"/>
            <a:ext cx="488880" cy="923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奥玛丽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 rot="801000">
            <a:off x="7527600" y="5388120"/>
            <a:ext cx="644400" cy="115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阿玛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0"/>
          <p:cNvSpPr/>
          <p:nvPr/>
        </p:nvSpPr>
        <p:spPr>
          <a:xfrm rot="1372800">
            <a:off x="6540480" y="5194080"/>
            <a:ext cx="569880" cy="849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高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 rot="1372800">
            <a:off x="5676840" y="5252760"/>
            <a:ext cx="874800" cy="517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埃斯普瑞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2"/>
          <p:cNvSpPr/>
          <p:nvPr/>
        </p:nvSpPr>
        <p:spPr>
          <a:xfrm rot="1372800">
            <a:off x="5086080" y="4811400"/>
            <a:ext cx="64764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声雨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 rot="1492800">
            <a:off x="4701960" y="4300560"/>
            <a:ext cx="64764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耐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4"/>
          <p:cNvSpPr/>
          <p:nvPr/>
        </p:nvSpPr>
        <p:spPr>
          <a:xfrm rot="1492800">
            <a:off x="4203360" y="4053960"/>
            <a:ext cx="50472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.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5"/>
          <p:cNvSpPr/>
          <p:nvPr/>
        </p:nvSpPr>
        <p:spPr>
          <a:xfrm rot="1492800">
            <a:off x="3492000" y="4170240"/>
            <a:ext cx="50328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爱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6"/>
          <p:cNvSpPr/>
          <p:nvPr/>
        </p:nvSpPr>
        <p:spPr>
          <a:xfrm rot="1492800">
            <a:off x="3017520" y="3981240"/>
            <a:ext cx="536400" cy="433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欧迪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7"/>
          <p:cNvSpPr/>
          <p:nvPr/>
        </p:nvSpPr>
        <p:spPr>
          <a:xfrm rot="1372800">
            <a:off x="2555640" y="3665520"/>
            <a:ext cx="358560" cy="49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皇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裘皮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8"/>
          <p:cNvSpPr/>
          <p:nvPr/>
        </p:nvSpPr>
        <p:spPr>
          <a:xfrm rot="1372800">
            <a:off x="2052360" y="3452760"/>
            <a:ext cx="571320" cy="49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金利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9"/>
          <p:cNvSpPr/>
          <p:nvPr/>
        </p:nvSpPr>
        <p:spPr>
          <a:xfrm rot="1372800">
            <a:off x="1688760" y="3246480"/>
            <a:ext cx="431640" cy="49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新盘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0"/>
          <p:cNvSpPr/>
          <p:nvPr/>
        </p:nvSpPr>
        <p:spPr>
          <a:xfrm rot="1372800">
            <a:off x="1251000" y="3043080"/>
            <a:ext cx="509400" cy="49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察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尔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468360" y="1217520"/>
            <a:ext cx="50328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哥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468360" y="785880"/>
            <a:ext cx="79056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赛汗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4"/>
          <p:cNvSpPr/>
          <p:nvPr/>
        </p:nvSpPr>
        <p:spPr>
          <a:xfrm>
            <a:off x="1258920" y="785880"/>
            <a:ext cx="86508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兆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5"/>
          <p:cNvSpPr/>
          <p:nvPr/>
        </p:nvSpPr>
        <p:spPr>
          <a:xfrm>
            <a:off x="2124000" y="785880"/>
            <a:ext cx="100800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鄂尔多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6"/>
          <p:cNvSpPr/>
          <p:nvPr/>
        </p:nvSpPr>
        <p:spPr>
          <a:xfrm>
            <a:off x="5580000" y="785880"/>
            <a:ext cx="792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蕾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7"/>
          <p:cNvSpPr/>
          <p:nvPr/>
        </p:nvSpPr>
        <p:spPr>
          <a:xfrm>
            <a:off x="3276720" y="785880"/>
            <a:ext cx="64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宝丝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8"/>
          <p:cNvSpPr/>
          <p:nvPr/>
        </p:nvSpPr>
        <p:spPr>
          <a:xfrm>
            <a:off x="3924360" y="785880"/>
            <a:ext cx="720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蓝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9"/>
          <p:cNvSpPr/>
          <p:nvPr/>
        </p:nvSpPr>
        <p:spPr>
          <a:xfrm rot="218400">
            <a:off x="6300360" y="1072800"/>
            <a:ext cx="863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玖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0"/>
          <p:cNvSpPr/>
          <p:nvPr/>
        </p:nvSpPr>
        <p:spPr>
          <a:xfrm>
            <a:off x="5148360" y="785880"/>
            <a:ext cx="431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沐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1"/>
          <p:cNvSpPr/>
          <p:nvPr/>
        </p:nvSpPr>
        <p:spPr>
          <a:xfrm rot="622200">
            <a:off x="7164000" y="1144080"/>
            <a:ext cx="7207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敦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2"/>
          <p:cNvSpPr/>
          <p:nvPr/>
        </p:nvSpPr>
        <p:spPr>
          <a:xfrm rot="20312400">
            <a:off x="7667280" y="1936800"/>
            <a:ext cx="576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斯尔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3"/>
          <p:cNvSpPr/>
          <p:nvPr/>
        </p:nvSpPr>
        <p:spPr>
          <a:xfrm rot="738600">
            <a:off x="6559200" y="4522680"/>
            <a:ext cx="9111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容子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4"/>
          <p:cNvSpPr/>
          <p:nvPr/>
        </p:nvSpPr>
        <p:spPr>
          <a:xfrm>
            <a:off x="1187280" y="1504800"/>
            <a:ext cx="28908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5"/>
          <p:cNvSpPr/>
          <p:nvPr/>
        </p:nvSpPr>
        <p:spPr>
          <a:xfrm>
            <a:off x="1476360" y="1504800"/>
            <a:ext cx="287280" cy="1224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鹿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澳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蒂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6"/>
          <p:cNvSpPr/>
          <p:nvPr/>
        </p:nvSpPr>
        <p:spPr>
          <a:xfrm>
            <a:off x="1908000" y="1504800"/>
            <a:ext cx="648000" cy="4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鄂尔多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奥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7"/>
          <p:cNvSpPr/>
          <p:nvPr/>
        </p:nvSpPr>
        <p:spPr>
          <a:xfrm>
            <a:off x="2556000" y="1504800"/>
            <a:ext cx="576000" cy="4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鹿王羊绒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8"/>
          <p:cNvSpPr/>
          <p:nvPr/>
        </p:nvSpPr>
        <p:spPr>
          <a:xfrm>
            <a:off x="3276720" y="1577880"/>
            <a:ext cx="57456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羊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9"/>
          <p:cNvSpPr/>
          <p:nvPr/>
        </p:nvSpPr>
        <p:spPr>
          <a:xfrm>
            <a:off x="3851280" y="1577880"/>
            <a:ext cx="64944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蒙伊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0"/>
          <p:cNvSpPr/>
          <p:nvPr/>
        </p:nvSpPr>
        <p:spPr>
          <a:xfrm>
            <a:off x="4643280" y="785880"/>
            <a:ext cx="505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布依诺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1"/>
          <p:cNvSpPr/>
          <p:nvPr/>
        </p:nvSpPr>
        <p:spPr>
          <a:xfrm>
            <a:off x="4500720" y="1577880"/>
            <a:ext cx="56340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维尔金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2"/>
          <p:cNvSpPr/>
          <p:nvPr/>
        </p:nvSpPr>
        <p:spPr>
          <a:xfrm rot="17542800">
            <a:off x="6138720" y="3179880"/>
            <a:ext cx="503280" cy="179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金海湾银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3"/>
          <p:cNvSpPr/>
          <p:nvPr/>
        </p:nvSpPr>
        <p:spPr>
          <a:xfrm rot="17534400">
            <a:off x="5994360" y="3683160"/>
            <a:ext cx="503280" cy="179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碧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4"/>
          <p:cNvSpPr/>
          <p:nvPr/>
        </p:nvSpPr>
        <p:spPr>
          <a:xfrm rot="1492800">
            <a:off x="5140080" y="3917520"/>
            <a:ext cx="70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华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5"/>
          <p:cNvSpPr/>
          <p:nvPr/>
        </p:nvSpPr>
        <p:spPr>
          <a:xfrm>
            <a:off x="3348000" y="3233880"/>
            <a:ext cx="503280" cy="5029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曼妮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兰卓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6"/>
          <p:cNvSpPr/>
          <p:nvPr/>
        </p:nvSpPr>
        <p:spPr>
          <a:xfrm>
            <a:off x="3851280" y="3233880"/>
            <a:ext cx="43344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纤姿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7"/>
          <p:cNvSpPr/>
          <p:nvPr/>
        </p:nvSpPr>
        <p:spPr>
          <a:xfrm>
            <a:off x="3276720" y="2370240"/>
            <a:ext cx="503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格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8"/>
          <p:cNvSpPr/>
          <p:nvPr/>
        </p:nvSpPr>
        <p:spPr>
          <a:xfrm>
            <a:off x="3780000" y="2370240"/>
            <a:ext cx="43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红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莲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9"/>
          <p:cNvSpPr/>
          <p:nvPr/>
        </p:nvSpPr>
        <p:spPr>
          <a:xfrm>
            <a:off x="4211640" y="2370240"/>
            <a:ext cx="431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泰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0"/>
          <p:cNvSpPr/>
          <p:nvPr/>
        </p:nvSpPr>
        <p:spPr>
          <a:xfrm>
            <a:off x="4281480" y="3233880"/>
            <a:ext cx="50652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伊芙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1"/>
          <p:cNvSpPr/>
          <p:nvPr/>
        </p:nvSpPr>
        <p:spPr>
          <a:xfrm rot="723000">
            <a:off x="6948000" y="3809880"/>
            <a:ext cx="638280" cy="5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菲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2"/>
          <p:cNvSpPr/>
          <p:nvPr/>
        </p:nvSpPr>
        <p:spPr>
          <a:xfrm rot="813000">
            <a:off x="7092720" y="3088800"/>
            <a:ext cx="636480" cy="55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舒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3"/>
          <p:cNvSpPr/>
          <p:nvPr/>
        </p:nvSpPr>
        <p:spPr>
          <a:xfrm>
            <a:off x="6877080" y="2081160"/>
            <a:ext cx="5745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库鲁迪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4"/>
          <p:cNvSpPr/>
          <p:nvPr/>
        </p:nvSpPr>
        <p:spPr>
          <a:xfrm rot="487800">
            <a:off x="6227280" y="1864800"/>
            <a:ext cx="64620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丝蒂雅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5"/>
          <p:cNvSpPr/>
          <p:nvPr/>
        </p:nvSpPr>
        <p:spPr>
          <a:xfrm>
            <a:off x="5580000" y="1577880"/>
            <a:ext cx="64620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爱玲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6"/>
          <p:cNvSpPr/>
          <p:nvPr/>
        </p:nvSpPr>
        <p:spPr>
          <a:xfrm>
            <a:off x="5003640" y="1577880"/>
            <a:ext cx="57636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永恒颜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7"/>
          <p:cNvSpPr/>
          <p:nvPr/>
        </p:nvSpPr>
        <p:spPr>
          <a:xfrm>
            <a:off x="4643280" y="2370240"/>
            <a:ext cx="432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伊珀比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8"/>
          <p:cNvSpPr/>
          <p:nvPr/>
        </p:nvSpPr>
        <p:spPr>
          <a:xfrm>
            <a:off x="5003640" y="2944800"/>
            <a:ext cx="21600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9"/>
          <p:cNvSpPr/>
          <p:nvPr/>
        </p:nvSpPr>
        <p:spPr>
          <a:xfrm>
            <a:off x="5292720" y="2873520"/>
            <a:ext cx="431640" cy="215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千姿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0"/>
          <p:cNvSpPr/>
          <p:nvPr/>
        </p:nvSpPr>
        <p:spPr>
          <a:xfrm>
            <a:off x="5219640" y="2370240"/>
            <a:ext cx="576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Z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1"/>
          <p:cNvSpPr/>
          <p:nvPr/>
        </p:nvSpPr>
        <p:spPr>
          <a:xfrm>
            <a:off x="5796000" y="2370240"/>
            <a:ext cx="576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邓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2"/>
          <p:cNvSpPr/>
          <p:nvPr/>
        </p:nvSpPr>
        <p:spPr>
          <a:xfrm>
            <a:off x="5724360" y="2873520"/>
            <a:ext cx="432000" cy="215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熙尔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3"/>
          <p:cNvSpPr/>
          <p:nvPr/>
        </p:nvSpPr>
        <p:spPr>
          <a:xfrm>
            <a:off x="6156360" y="2873520"/>
            <a:ext cx="431640" cy="215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星赐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4"/>
          <p:cNvSpPr/>
          <p:nvPr/>
        </p:nvSpPr>
        <p:spPr>
          <a:xfrm rot="723000">
            <a:off x="6443640" y="3665520"/>
            <a:ext cx="503280" cy="5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名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5"/>
          <p:cNvSpPr/>
          <p:nvPr/>
        </p:nvSpPr>
        <p:spPr>
          <a:xfrm rot="723000">
            <a:off x="6588000" y="2944800"/>
            <a:ext cx="503280" cy="5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歌妮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6"/>
          <p:cNvSpPr/>
          <p:nvPr/>
        </p:nvSpPr>
        <p:spPr>
          <a:xfrm rot="261600">
            <a:off x="1906560" y="2440080"/>
            <a:ext cx="82080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东达蒙古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7"/>
          <p:cNvSpPr/>
          <p:nvPr/>
        </p:nvSpPr>
        <p:spPr>
          <a:xfrm rot="279600">
            <a:off x="2763360" y="2511360"/>
            <a:ext cx="387360" cy="72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威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179280" y="1341360"/>
            <a:ext cx="576360" cy="936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卓凡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华伦天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179280" y="404640"/>
            <a:ext cx="576360" cy="936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公牛巨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755640" y="404640"/>
            <a:ext cx="431640" cy="505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柏图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1187280" y="404640"/>
            <a:ext cx="432000" cy="505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策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1619280" y="404640"/>
            <a:ext cx="431640" cy="505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沙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2050920" y="404640"/>
            <a:ext cx="433440" cy="505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骆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2484360" y="404640"/>
            <a:ext cx="360360" cy="505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哈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2987640" y="404640"/>
            <a:ext cx="72072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金利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6"/>
          <p:cNvSpPr/>
          <p:nvPr/>
        </p:nvSpPr>
        <p:spPr>
          <a:xfrm>
            <a:off x="3708360" y="404640"/>
            <a:ext cx="72072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骆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4427640" y="404640"/>
            <a:ext cx="72072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8"/>
          <p:cNvSpPr/>
          <p:nvPr/>
        </p:nvSpPr>
        <p:spPr>
          <a:xfrm>
            <a:off x="5148360" y="620640"/>
            <a:ext cx="792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依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0"/>
          <p:cNvSpPr/>
          <p:nvPr/>
        </p:nvSpPr>
        <p:spPr>
          <a:xfrm>
            <a:off x="6084720" y="838080"/>
            <a:ext cx="1151280" cy="648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皮尔卡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2"/>
          <p:cNvSpPr/>
          <p:nvPr/>
        </p:nvSpPr>
        <p:spPr>
          <a:xfrm>
            <a:off x="6948360" y="836640"/>
            <a:ext cx="9367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马克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思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3"/>
          <p:cNvSpPr/>
          <p:nvPr/>
        </p:nvSpPr>
        <p:spPr>
          <a:xfrm rot="20886000">
            <a:off x="7524720" y="1483920"/>
            <a:ext cx="576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罗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4"/>
          <p:cNvSpPr/>
          <p:nvPr/>
        </p:nvSpPr>
        <p:spPr>
          <a:xfrm rot="20886000">
            <a:off x="7659360" y="2133720"/>
            <a:ext cx="57636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雅戈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5"/>
          <p:cNvSpPr/>
          <p:nvPr/>
        </p:nvSpPr>
        <p:spPr>
          <a:xfrm rot="569400">
            <a:off x="8292600" y="3138480"/>
            <a:ext cx="64944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&amp;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6"/>
          <p:cNvSpPr/>
          <p:nvPr/>
        </p:nvSpPr>
        <p:spPr>
          <a:xfrm rot="569400">
            <a:off x="8101080" y="4220640"/>
            <a:ext cx="649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阿恩蓝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8"/>
          <p:cNvSpPr/>
          <p:nvPr/>
        </p:nvSpPr>
        <p:spPr>
          <a:xfrm rot="569400">
            <a:off x="7838640" y="5156280"/>
            <a:ext cx="649440" cy="1701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拉夏贝尔男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9"/>
          <p:cNvSpPr/>
          <p:nvPr/>
        </p:nvSpPr>
        <p:spPr>
          <a:xfrm rot="1570800">
            <a:off x="6300360" y="5660640"/>
            <a:ext cx="1224000" cy="63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E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0"/>
          <p:cNvSpPr/>
          <p:nvPr/>
        </p:nvSpPr>
        <p:spPr>
          <a:xfrm rot="1570800">
            <a:off x="5198760" y="5159160"/>
            <a:ext cx="1165320" cy="711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艾斯普瑞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PR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1"/>
          <p:cNvSpPr/>
          <p:nvPr/>
        </p:nvSpPr>
        <p:spPr>
          <a:xfrm rot="1242000">
            <a:off x="5724000" y="4147920"/>
            <a:ext cx="489240" cy="349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派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2"/>
          <p:cNvSpPr/>
          <p:nvPr/>
        </p:nvSpPr>
        <p:spPr>
          <a:xfrm rot="1579800">
            <a:off x="4898520" y="3849840"/>
            <a:ext cx="863640" cy="36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花花公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3"/>
          <p:cNvSpPr/>
          <p:nvPr/>
        </p:nvSpPr>
        <p:spPr>
          <a:xfrm rot="1579800">
            <a:off x="4065120" y="4076640"/>
            <a:ext cx="865440" cy="366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斯莱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4"/>
          <p:cNvSpPr/>
          <p:nvPr/>
        </p:nvSpPr>
        <p:spPr>
          <a:xfrm rot="993000">
            <a:off x="6575040" y="4289400"/>
            <a:ext cx="1305000" cy="4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卡宾休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5"/>
          <p:cNvSpPr/>
          <p:nvPr/>
        </p:nvSpPr>
        <p:spPr>
          <a:xfrm rot="909600">
            <a:off x="6442200" y="4721040"/>
            <a:ext cx="1296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马克华菲都市白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6"/>
          <p:cNvSpPr/>
          <p:nvPr/>
        </p:nvSpPr>
        <p:spPr>
          <a:xfrm rot="993000">
            <a:off x="7012080" y="3623760"/>
            <a:ext cx="944640" cy="4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波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8"/>
          <p:cNvSpPr/>
          <p:nvPr/>
        </p:nvSpPr>
        <p:spPr>
          <a:xfrm rot="993000">
            <a:off x="7164360" y="3212640"/>
            <a:ext cx="944640" cy="4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七匹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9"/>
          <p:cNvSpPr/>
          <p:nvPr/>
        </p:nvSpPr>
        <p:spPr>
          <a:xfrm rot="993000">
            <a:off x="6654600" y="2982960"/>
            <a:ext cx="442800" cy="90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威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0"/>
          <p:cNvSpPr/>
          <p:nvPr/>
        </p:nvSpPr>
        <p:spPr>
          <a:xfrm>
            <a:off x="4932360" y="2781360"/>
            <a:ext cx="216000" cy="360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Zipp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1"/>
          <p:cNvSpPr/>
          <p:nvPr/>
        </p:nvSpPr>
        <p:spPr>
          <a:xfrm rot="699000">
            <a:off x="6227280" y="2923920"/>
            <a:ext cx="216000" cy="720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威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2"/>
          <p:cNvSpPr/>
          <p:nvPr/>
        </p:nvSpPr>
        <p:spPr>
          <a:xfrm>
            <a:off x="5148360" y="2637000"/>
            <a:ext cx="1368360" cy="215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牧旗  佳伦士  三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3"/>
          <p:cNvSpPr/>
          <p:nvPr/>
        </p:nvSpPr>
        <p:spPr>
          <a:xfrm>
            <a:off x="4932360" y="1844640"/>
            <a:ext cx="122400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杰克琼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4"/>
          <p:cNvSpPr/>
          <p:nvPr/>
        </p:nvSpPr>
        <p:spPr>
          <a:xfrm>
            <a:off x="3132000" y="1700280"/>
            <a:ext cx="36036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卡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罗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5"/>
          <p:cNvSpPr/>
          <p:nvPr/>
        </p:nvSpPr>
        <p:spPr>
          <a:xfrm>
            <a:off x="3132000" y="1197000"/>
            <a:ext cx="71928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6"/>
          <p:cNvSpPr/>
          <p:nvPr/>
        </p:nvSpPr>
        <p:spPr>
          <a:xfrm>
            <a:off x="4932360" y="1268280"/>
            <a:ext cx="122400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德依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7"/>
          <p:cNvSpPr/>
          <p:nvPr/>
        </p:nvSpPr>
        <p:spPr>
          <a:xfrm>
            <a:off x="3851280" y="1197000"/>
            <a:ext cx="79380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虎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9"/>
          <p:cNvSpPr/>
          <p:nvPr/>
        </p:nvSpPr>
        <p:spPr>
          <a:xfrm>
            <a:off x="3851280" y="1700280"/>
            <a:ext cx="43164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0"/>
          <p:cNvSpPr/>
          <p:nvPr/>
        </p:nvSpPr>
        <p:spPr>
          <a:xfrm>
            <a:off x="4284720" y="1700280"/>
            <a:ext cx="35856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1"/>
          <p:cNvSpPr/>
          <p:nvPr/>
        </p:nvSpPr>
        <p:spPr>
          <a:xfrm>
            <a:off x="3492360" y="1700280"/>
            <a:ext cx="358920" cy="504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柒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2"/>
          <p:cNvSpPr/>
          <p:nvPr/>
        </p:nvSpPr>
        <p:spPr>
          <a:xfrm>
            <a:off x="1692360" y="1052640"/>
            <a:ext cx="287280" cy="504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花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公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3"/>
          <p:cNvSpPr/>
          <p:nvPr/>
        </p:nvSpPr>
        <p:spPr>
          <a:xfrm>
            <a:off x="1979640" y="1052640"/>
            <a:ext cx="287280" cy="504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卡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乐鳄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4"/>
          <p:cNvSpPr/>
          <p:nvPr/>
        </p:nvSpPr>
        <p:spPr>
          <a:xfrm>
            <a:off x="2268360" y="1052640"/>
            <a:ext cx="287640" cy="504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8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5"/>
          <p:cNvSpPr/>
          <p:nvPr/>
        </p:nvSpPr>
        <p:spPr>
          <a:xfrm>
            <a:off x="2556000" y="1052640"/>
            <a:ext cx="287280" cy="504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6"/>
          <p:cNvSpPr/>
          <p:nvPr/>
        </p:nvSpPr>
        <p:spPr>
          <a:xfrm>
            <a:off x="900000" y="1052640"/>
            <a:ext cx="358920" cy="504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木林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7"/>
          <p:cNvSpPr/>
          <p:nvPr/>
        </p:nvSpPr>
        <p:spPr>
          <a:xfrm>
            <a:off x="900000" y="1557360"/>
            <a:ext cx="358920" cy="504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富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老爷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8"/>
          <p:cNvSpPr/>
          <p:nvPr/>
        </p:nvSpPr>
        <p:spPr>
          <a:xfrm>
            <a:off x="1258920" y="1052640"/>
            <a:ext cx="288720" cy="1008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9"/>
          <p:cNvSpPr/>
          <p:nvPr/>
        </p:nvSpPr>
        <p:spPr>
          <a:xfrm rot="1332000">
            <a:off x="774360" y="2819520"/>
            <a:ext cx="6904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梦特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0"/>
          <p:cNvSpPr/>
          <p:nvPr/>
        </p:nvSpPr>
        <p:spPr>
          <a:xfrm>
            <a:off x="179280" y="2276640"/>
            <a:ext cx="57636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衣服缝补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1"/>
          <p:cNvSpPr/>
          <p:nvPr/>
        </p:nvSpPr>
        <p:spPr>
          <a:xfrm rot="1662600">
            <a:off x="3431880" y="4321080"/>
            <a:ext cx="555480" cy="49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苏格兰飞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2"/>
          <p:cNvSpPr/>
          <p:nvPr/>
        </p:nvSpPr>
        <p:spPr>
          <a:xfrm rot="1474200">
            <a:off x="2268000" y="3429000"/>
            <a:ext cx="648000" cy="746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宾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63"/>
          <p:cNvSpPr/>
          <p:nvPr/>
        </p:nvSpPr>
        <p:spPr>
          <a:xfrm rot="1332000">
            <a:off x="1402920" y="3141360"/>
            <a:ext cx="9064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喜来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4"/>
          <p:cNvSpPr/>
          <p:nvPr/>
        </p:nvSpPr>
        <p:spPr>
          <a:xfrm rot="1662600">
            <a:off x="2766960" y="4021200"/>
            <a:ext cx="720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VSDO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5"/>
          <p:cNvSpPr/>
          <p:nvPr/>
        </p:nvSpPr>
        <p:spPr>
          <a:xfrm>
            <a:off x="1692360" y="2060640"/>
            <a:ext cx="107928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新秀丽箱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7"/>
          <p:cNvSpPr/>
          <p:nvPr/>
        </p:nvSpPr>
        <p:spPr>
          <a:xfrm>
            <a:off x="1619280" y="2492280"/>
            <a:ext cx="649080" cy="289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万里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8"/>
          <p:cNvSpPr/>
          <p:nvPr/>
        </p:nvSpPr>
        <p:spPr>
          <a:xfrm>
            <a:off x="2268360" y="2492280"/>
            <a:ext cx="719280" cy="576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卓凡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华伦天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9"/>
          <p:cNvSpPr/>
          <p:nvPr/>
        </p:nvSpPr>
        <p:spPr>
          <a:xfrm>
            <a:off x="3132000" y="2565360"/>
            <a:ext cx="36036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英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保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0"/>
          <p:cNvSpPr/>
          <p:nvPr/>
        </p:nvSpPr>
        <p:spPr>
          <a:xfrm>
            <a:off x="3492360" y="2924280"/>
            <a:ext cx="36036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帕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雷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1"/>
          <p:cNvSpPr/>
          <p:nvPr/>
        </p:nvSpPr>
        <p:spPr>
          <a:xfrm>
            <a:off x="4427640" y="2492280"/>
            <a:ext cx="360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洛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克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2"/>
          <p:cNvSpPr/>
          <p:nvPr/>
        </p:nvSpPr>
        <p:spPr>
          <a:xfrm>
            <a:off x="4427640" y="3068640"/>
            <a:ext cx="360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古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3"/>
          <p:cNvSpPr/>
          <p:nvPr/>
        </p:nvSpPr>
        <p:spPr>
          <a:xfrm>
            <a:off x="4067280" y="2492280"/>
            <a:ext cx="36036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洛威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4"/>
          <p:cNvSpPr/>
          <p:nvPr/>
        </p:nvSpPr>
        <p:spPr>
          <a:xfrm>
            <a:off x="3492360" y="2565360"/>
            <a:ext cx="36036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西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5"/>
          <p:cNvSpPr/>
          <p:nvPr/>
        </p:nvSpPr>
        <p:spPr>
          <a:xfrm>
            <a:off x="6948360" y="1700280"/>
            <a:ext cx="360360" cy="216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开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6"/>
          <p:cNvSpPr/>
          <p:nvPr/>
        </p:nvSpPr>
        <p:spPr>
          <a:xfrm>
            <a:off x="6948360" y="1916280"/>
            <a:ext cx="360360" cy="215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恒源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7"/>
          <p:cNvSpPr/>
          <p:nvPr/>
        </p:nvSpPr>
        <p:spPr>
          <a:xfrm>
            <a:off x="6948360" y="2133720"/>
            <a:ext cx="360360" cy="215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洛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8"/>
          <p:cNvSpPr/>
          <p:nvPr/>
        </p:nvSpPr>
        <p:spPr>
          <a:xfrm>
            <a:off x="6948360" y="2349360"/>
            <a:ext cx="360360" cy="216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琴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9"/>
          <p:cNvSpPr/>
          <p:nvPr/>
        </p:nvSpPr>
        <p:spPr>
          <a:xfrm>
            <a:off x="6588000" y="1700280"/>
            <a:ext cx="360360" cy="433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虎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0"/>
          <p:cNvSpPr/>
          <p:nvPr/>
        </p:nvSpPr>
        <p:spPr>
          <a:xfrm>
            <a:off x="6588000" y="2133720"/>
            <a:ext cx="360360" cy="431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罗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95"/>
          <p:cNvGrpSpPr/>
          <p:nvPr/>
        </p:nvGrpSpPr>
        <p:grpSpPr>
          <a:xfrm>
            <a:off x="298440" y="550800"/>
            <a:ext cx="8799840" cy="6209280"/>
            <a:chOff x="298440" y="550800"/>
            <a:chExt cx="8799840" cy="6209280"/>
          </a:xfrm>
        </p:grpSpPr>
        <p:sp>
          <p:nvSpPr>
            <p:cNvPr id="241" name="Rectangle 5"/>
            <p:cNvSpPr/>
            <p:nvPr/>
          </p:nvSpPr>
          <p:spPr>
            <a:xfrm>
              <a:off x="333360" y="622080"/>
              <a:ext cx="290520" cy="505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赤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7"/>
            <p:cNvSpPr/>
            <p:nvPr/>
          </p:nvSpPr>
          <p:spPr>
            <a:xfrm>
              <a:off x="693720" y="622080"/>
              <a:ext cx="290520" cy="505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麻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辣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香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锅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8"/>
            <p:cNvSpPr/>
            <p:nvPr/>
          </p:nvSpPr>
          <p:spPr>
            <a:xfrm>
              <a:off x="1054080" y="622080"/>
              <a:ext cx="290520" cy="505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盖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浇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9"/>
            <p:cNvSpPr/>
            <p:nvPr/>
          </p:nvSpPr>
          <p:spPr>
            <a:xfrm>
              <a:off x="1414440" y="622080"/>
              <a:ext cx="290520" cy="505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湘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碗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菜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0"/>
            <p:cNvSpPr/>
            <p:nvPr/>
          </p:nvSpPr>
          <p:spPr>
            <a:xfrm>
              <a:off x="1774800" y="622080"/>
              <a:ext cx="290520" cy="505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风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1"/>
            <p:cNvSpPr/>
            <p:nvPr/>
          </p:nvSpPr>
          <p:spPr>
            <a:xfrm>
              <a:off x="2133720" y="622080"/>
              <a:ext cx="290520" cy="505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锅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2"/>
            <p:cNvSpPr/>
            <p:nvPr/>
          </p:nvSpPr>
          <p:spPr>
            <a:xfrm>
              <a:off x="2494080" y="622080"/>
              <a:ext cx="290520" cy="505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州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面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3"/>
            <p:cNvSpPr/>
            <p:nvPr/>
          </p:nvSpPr>
          <p:spPr>
            <a:xfrm>
              <a:off x="2854440" y="622080"/>
              <a:ext cx="290520" cy="505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山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削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面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4"/>
            <p:cNvSpPr/>
            <p:nvPr/>
          </p:nvSpPr>
          <p:spPr>
            <a:xfrm>
              <a:off x="298440" y="1198440"/>
              <a:ext cx="324000" cy="71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上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香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5"/>
            <p:cNvSpPr/>
            <p:nvPr/>
          </p:nvSpPr>
          <p:spPr>
            <a:xfrm>
              <a:off x="298440" y="1917720"/>
              <a:ext cx="324000" cy="64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休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水吧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6"/>
            <p:cNvSpPr/>
            <p:nvPr/>
          </p:nvSpPr>
          <p:spPr>
            <a:xfrm rot="2125200">
              <a:off x="693360" y="2422440"/>
              <a:ext cx="360360" cy="43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粥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7"/>
            <p:cNvSpPr/>
            <p:nvPr/>
          </p:nvSpPr>
          <p:spPr>
            <a:xfrm rot="2136600">
              <a:off x="1053720" y="2709360"/>
              <a:ext cx="360360" cy="43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主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厨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8"/>
            <p:cNvSpPr/>
            <p:nvPr/>
          </p:nvSpPr>
          <p:spPr>
            <a:xfrm rot="1325400">
              <a:off x="1198080" y="3573360"/>
              <a:ext cx="358920" cy="50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四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火锅吧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9"/>
            <p:cNvSpPr/>
            <p:nvPr/>
          </p:nvSpPr>
          <p:spPr>
            <a:xfrm rot="1325400">
              <a:off x="1626840" y="3730320"/>
              <a:ext cx="360360" cy="50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重庆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麻辣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20"/>
            <p:cNvSpPr/>
            <p:nvPr/>
          </p:nvSpPr>
          <p:spPr>
            <a:xfrm rot="1325400">
              <a:off x="2066760" y="3904920"/>
              <a:ext cx="435240" cy="50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川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米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21"/>
            <p:cNvSpPr/>
            <p:nvPr/>
          </p:nvSpPr>
          <p:spPr>
            <a:xfrm rot="1325400">
              <a:off x="2571840" y="4123800"/>
              <a:ext cx="433440" cy="505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成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麻辣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22"/>
            <p:cNvSpPr/>
            <p:nvPr/>
          </p:nvSpPr>
          <p:spPr>
            <a:xfrm rot="3760200">
              <a:off x="7933320" y="1307160"/>
              <a:ext cx="787320" cy="576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彪马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U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23"/>
            <p:cNvSpPr/>
            <p:nvPr/>
          </p:nvSpPr>
          <p:spPr>
            <a:xfrm rot="3991200">
              <a:off x="8280000" y="2025360"/>
              <a:ext cx="792000" cy="576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卡帕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Kapp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24"/>
            <p:cNvSpPr/>
            <p:nvPr/>
          </p:nvSpPr>
          <p:spPr>
            <a:xfrm rot="21340800">
              <a:off x="6810120" y="686880"/>
              <a:ext cx="1584360" cy="4381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耐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IK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25"/>
            <p:cNvSpPr/>
            <p:nvPr/>
          </p:nvSpPr>
          <p:spPr>
            <a:xfrm rot="21340800">
              <a:off x="5946840" y="766800"/>
              <a:ext cx="792000" cy="431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木林森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26"/>
            <p:cNvSpPr/>
            <p:nvPr/>
          </p:nvSpPr>
          <p:spPr>
            <a:xfrm>
              <a:off x="5229360" y="550800"/>
              <a:ext cx="649080" cy="576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雷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27"/>
            <p:cNvSpPr/>
            <p:nvPr/>
          </p:nvSpPr>
          <p:spPr>
            <a:xfrm>
              <a:off x="3214800" y="550800"/>
              <a:ext cx="576000" cy="5763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乔德家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28"/>
            <p:cNvSpPr/>
            <p:nvPr/>
          </p:nvSpPr>
          <p:spPr>
            <a:xfrm>
              <a:off x="3933720" y="550800"/>
              <a:ext cx="576360" cy="5763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馨亭家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29"/>
            <p:cNvSpPr/>
            <p:nvPr/>
          </p:nvSpPr>
          <p:spPr>
            <a:xfrm>
              <a:off x="4583160" y="550800"/>
              <a:ext cx="576360" cy="5745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罗莱家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30"/>
            <p:cNvSpPr/>
            <p:nvPr/>
          </p:nvSpPr>
          <p:spPr>
            <a:xfrm>
              <a:off x="3286080" y="1774800"/>
              <a:ext cx="576360" cy="3589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澳西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31"/>
            <p:cNvSpPr/>
            <p:nvPr/>
          </p:nvSpPr>
          <p:spPr>
            <a:xfrm>
              <a:off x="3286080" y="1342800"/>
              <a:ext cx="576360" cy="4320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圣路易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32"/>
            <p:cNvSpPr/>
            <p:nvPr/>
          </p:nvSpPr>
          <p:spPr>
            <a:xfrm>
              <a:off x="3862440" y="1774800"/>
              <a:ext cx="576360" cy="3589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多喜爱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33"/>
            <p:cNvSpPr/>
            <p:nvPr/>
          </p:nvSpPr>
          <p:spPr>
            <a:xfrm>
              <a:off x="4438800" y="1342800"/>
              <a:ext cx="502920" cy="7909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南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寝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34"/>
            <p:cNvSpPr/>
            <p:nvPr/>
          </p:nvSpPr>
          <p:spPr>
            <a:xfrm>
              <a:off x="3862440" y="1342800"/>
              <a:ext cx="576360" cy="4305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富仕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35"/>
            <p:cNvSpPr/>
            <p:nvPr/>
          </p:nvSpPr>
          <p:spPr>
            <a:xfrm>
              <a:off x="3357720" y="2351160"/>
              <a:ext cx="792000" cy="5032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响沙绣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36"/>
            <p:cNvSpPr/>
            <p:nvPr/>
          </p:nvSpPr>
          <p:spPr>
            <a:xfrm>
              <a:off x="4149720" y="2351160"/>
              <a:ext cx="792000" cy="5032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百利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37"/>
            <p:cNvSpPr/>
            <p:nvPr/>
          </p:nvSpPr>
          <p:spPr>
            <a:xfrm>
              <a:off x="5302080" y="1414440"/>
              <a:ext cx="936720" cy="504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鸿星尔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38"/>
            <p:cNvSpPr/>
            <p:nvPr/>
          </p:nvSpPr>
          <p:spPr>
            <a:xfrm>
              <a:off x="5302080" y="2062080"/>
              <a:ext cx="936720" cy="4302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阿迪达斯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39"/>
            <p:cNvSpPr/>
            <p:nvPr/>
          </p:nvSpPr>
          <p:spPr>
            <a:xfrm>
              <a:off x="6454800" y="1414440"/>
              <a:ext cx="576360" cy="792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探路者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0"/>
            <p:cNvSpPr/>
            <p:nvPr/>
          </p:nvSpPr>
          <p:spPr>
            <a:xfrm>
              <a:off x="7246800" y="1414440"/>
              <a:ext cx="576360" cy="792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匡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45"/>
            <p:cNvSpPr/>
            <p:nvPr/>
          </p:nvSpPr>
          <p:spPr>
            <a:xfrm rot="531600">
              <a:off x="8399160" y="2925360"/>
              <a:ext cx="360360" cy="7920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杉杉童装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6"/>
            <p:cNvSpPr/>
            <p:nvPr/>
          </p:nvSpPr>
          <p:spPr>
            <a:xfrm rot="504600">
              <a:off x="8310240" y="3740040"/>
              <a:ext cx="360360" cy="7923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安奈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47"/>
            <p:cNvSpPr/>
            <p:nvPr/>
          </p:nvSpPr>
          <p:spPr>
            <a:xfrm rot="504600">
              <a:off x="8110080" y="4510080"/>
              <a:ext cx="360360" cy="7920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小虎憨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48"/>
            <p:cNvSpPr/>
            <p:nvPr/>
          </p:nvSpPr>
          <p:spPr>
            <a:xfrm rot="670800">
              <a:off x="7959600" y="5300640"/>
              <a:ext cx="360360" cy="72072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迪士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49"/>
            <p:cNvSpPr/>
            <p:nvPr/>
          </p:nvSpPr>
          <p:spPr>
            <a:xfrm rot="1003200">
              <a:off x="7892640" y="2719440"/>
              <a:ext cx="289080" cy="4935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斯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51"/>
            <p:cNvSpPr/>
            <p:nvPr/>
          </p:nvSpPr>
          <p:spPr>
            <a:xfrm rot="1078800">
              <a:off x="7462800" y="2566800"/>
              <a:ext cx="216000" cy="4320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普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52"/>
            <p:cNvSpPr/>
            <p:nvPr/>
          </p:nvSpPr>
          <p:spPr>
            <a:xfrm rot="1117200">
              <a:off x="7338600" y="3096720"/>
              <a:ext cx="766800" cy="3603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水孩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50"/>
            <p:cNvSpPr/>
            <p:nvPr/>
          </p:nvSpPr>
          <p:spPr>
            <a:xfrm rot="1010400">
              <a:off x="7686360" y="2636640"/>
              <a:ext cx="216000" cy="4334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豆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53"/>
            <p:cNvSpPr/>
            <p:nvPr/>
          </p:nvSpPr>
          <p:spPr>
            <a:xfrm rot="1037400">
              <a:off x="6967080" y="2422080"/>
              <a:ext cx="447840" cy="8622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iss Birb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54"/>
            <p:cNvSpPr/>
            <p:nvPr/>
          </p:nvSpPr>
          <p:spPr>
            <a:xfrm rot="922800">
              <a:off x="7115040" y="4019400"/>
              <a:ext cx="648000" cy="3492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青青果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55"/>
            <p:cNvSpPr/>
            <p:nvPr/>
          </p:nvSpPr>
          <p:spPr>
            <a:xfrm rot="961800">
              <a:off x="7245000" y="3584160"/>
              <a:ext cx="647640" cy="4539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雀太郎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56"/>
            <p:cNvSpPr/>
            <p:nvPr/>
          </p:nvSpPr>
          <p:spPr>
            <a:xfrm rot="985800">
              <a:off x="6741720" y="3430080"/>
              <a:ext cx="576360" cy="4539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爱法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57"/>
            <p:cNvSpPr/>
            <p:nvPr/>
          </p:nvSpPr>
          <p:spPr>
            <a:xfrm rot="881400">
              <a:off x="6613560" y="3862080"/>
              <a:ext cx="576360" cy="35712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耐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58"/>
            <p:cNvSpPr/>
            <p:nvPr/>
          </p:nvSpPr>
          <p:spPr>
            <a:xfrm rot="712800">
              <a:off x="7031160" y="4583160"/>
              <a:ext cx="576000" cy="4539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迪士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59"/>
            <p:cNvSpPr/>
            <p:nvPr/>
          </p:nvSpPr>
          <p:spPr>
            <a:xfrm rot="696600">
              <a:off x="6886080" y="5014800"/>
              <a:ext cx="576360" cy="4539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凡兜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60"/>
            <p:cNvSpPr/>
            <p:nvPr/>
          </p:nvSpPr>
          <p:spPr>
            <a:xfrm rot="693000">
              <a:off x="6454800" y="4438440"/>
              <a:ext cx="576360" cy="45432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阿迪达斯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61"/>
            <p:cNvSpPr/>
            <p:nvPr/>
          </p:nvSpPr>
          <p:spPr>
            <a:xfrm rot="862800">
              <a:off x="6311880" y="4870440"/>
              <a:ext cx="576360" cy="4316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360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62"/>
            <p:cNvSpPr/>
            <p:nvPr/>
          </p:nvSpPr>
          <p:spPr>
            <a:xfrm rot="985800">
              <a:off x="5927760" y="4324320"/>
              <a:ext cx="360360" cy="617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卡米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63"/>
            <p:cNvSpPr/>
            <p:nvPr/>
          </p:nvSpPr>
          <p:spPr>
            <a:xfrm rot="985800">
              <a:off x="5500440" y="4170240"/>
              <a:ext cx="430200" cy="6285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a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a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64"/>
            <p:cNvSpPr/>
            <p:nvPr/>
          </p:nvSpPr>
          <p:spPr>
            <a:xfrm rot="985800">
              <a:off x="5143320" y="3943440"/>
              <a:ext cx="444600" cy="4316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好孩子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66"/>
            <p:cNvSpPr/>
            <p:nvPr/>
          </p:nvSpPr>
          <p:spPr>
            <a:xfrm rot="985800">
              <a:off x="5043600" y="4367160"/>
              <a:ext cx="474480" cy="30492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派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67"/>
            <p:cNvSpPr/>
            <p:nvPr/>
          </p:nvSpPr>
          <p:spPr>
            <a:xfrm rot="985800">
              <a:off x="5003280" y="4797000"/>
              <a:ext cx="330480" cy="25092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派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68"/>
            <p:cNvSpPr/>
            <p:nvPr/>
          </p:nvSpPr>
          <p:spPr>
            <a:xfrm rot="1310400">
              <a:off x="3135240" y="4608360"/>
              <a:ext cx="576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中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69"/>
            <p:cNvSpPr/>
            <p:nvPr/>
          </p:nvSpPr>
          <p:spPr>
            <a:xfrm rot="985800">
              <a:off x="3357360" y="4294080"/>
              <a:ext cx="239400" cy="351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恒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源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70"/>
            <p:cNvSpPr/>
            <p:nvPr/>
          </p:nvSpPr>
          <p:spPr>
            <a:xfrm rot="985800">
              <a:off x="3574800" y="4367160"/>
              <a:ext cx="239760" cy="351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多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71"/>
            <p:cNvSpPr/>
            <p:nvPr/>
          </p:nvSpPr>
          <p:spPr>
            <a:xfrm rot="1018200">
              <a:off x="3141720" y="4150800"/>
              <a:ext cx="239760" cy="351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暖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倍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72"/>
            <p:cNvSpPr/>
            <p:nvPr/>
          </p:nvSpPr>
          <p:spPr>
            <a:xfrm rot="6582600">
              <a:off x="3270240" y="3878280"/>
              <a:ext cx="239760" cy="35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枪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74"/>
            <p:cNvSpPr/>
            <p:nvPr/>
          </p:nvSpPr>
          <p:spPr>
            <a:xfrm rot="6582600">
              <a:off x="3270240" y="3662280"/>
              <a:ext cx="239760" cy="350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75"/>
            <p:cNvSpPr/>
            <p:nvPr/>
          </p:nvSpPr>
          <p:spPr>
            <a:xfrm rot="985800">
              <a:off x="3563640" y="3561840"/>
              <a:ext cx="311040" cy="4320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纤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76"/>
            <p:cNvSpPr/>
            <p:nvPr/>
          </p:nvSpPr>
          <p:spPr>
            <a:xfrm rot="985800">
              <a:off x="3847680" y="3649680"/>
              <a:ext cx="300240" cy="431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皮尔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卡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77"/>
            <p:cNvSpPr/>
            <p:nvPr/>
          </p:nvSpPr>
          <p:spPr>
            <a:xfrm rot="985800">
              <a:off x="4149360" y="3778200"/>
              <a:ext cx="312840" cy="4334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浩沙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78"/>
            <p:cNvSpPr/>
            <p:nvPr/>
          </p:nvSpPr>
          <p:spPr>
            <a:xfrm rot="985800">
              <a:off x="4437000" y="3862440"/>
              <a:ext cx="289080" cy="431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铜牛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80"/>
            <p:cNvSpPr/>
            <p:nvPr/>
          </p:nvSpPr>
          <p:spPr>
            <a:xfrm rot="985800">
              <a:off x="4713120" y="3930120"/>
              <a:ext cx="239760" cy="4334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鄂尔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多斯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83"/>
            <p:cNvSpPr/>
            <p:nvPr/>
          </p:nvSpPr>
          <p:spPr>
            <a:xfrm rot="1264800">
              <a:off x="3758760" y="4954680"/>
              <a:ext cx="459000" cy="223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办公用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84"/>
            <p:cNvSpPr/>
            <p:nvPr/>
          </p:nvSpPr>
          <p:spPr>
            <a:xfrm>
              <a:off x="3357720" y="2998800"/>
              <a:ext cx="720720" cy="2160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飞利浦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85"/>
            <p:cNvSpPr/>
            <p:nvPr/>
          </p:nvSpPr>
          <p:spPr>
            <a:xfrm>
              <a:off x="3357720" y="3214800"/>
              <a:ext cx="720720" cy="215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诺亚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86"/>
            <p:cNvSpPr/>
            <p:nvPr/>
          </p:nvSpPr>
          <p:spPr>
            <a:xfrm>
              <a:off x="4222800" y="2998800"/>
              <a:ext cx="720720" cy="2160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步步高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87"/>
            <p:cNvSpPr/>
            <p:nvPr/>
          </p:nvSpPr>
          <p:spPr>
            <a:xfrm>
              <a:off x="4222800" y="3214800"/>
              <a:ext cx="720720" cy="215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好记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88"/>
            <p:cNvSpPr/>
            <p:nvPr/>
          </p:nvSpPr>
          <p:spPr>
            <a:xfrm>
              <a:off x="5302080" y="2998800"/>
              <a:ext cx="21600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瑞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盛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89"/>
            <p:cNvSpPr/>
            <p:nvPr/>
          </p:nvSpPr>
          <p:spPr>
            <a:xfrm>
              <a:off x="5518080" y="2709720"/>
              <a:ext cx="43200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运动器材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90"/>
            <p:cNvSpPr/>
            <p:nvPr/>
          </p:nvSpPr>
          <p:spPr>
            <a:xfrm>
              <a:off x="6022800" y="2709720"/>
              <a:ext cx="72072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儿童玩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91"/>
            <p:cNvSpPr/>
            <p:nvPr/>
          </p:nvSpPr>
          <p:spPr>
            <a:xfrm rot="714600">
              <a:off x="6508440" y="2706120"/>
              <a:ext cx="223920" cy="1082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迪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乐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易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92"/>
            <p:cNvSpPr/>
            <p:nvPr/>
          </p:nvSpPr>
          <p:spPr>
            <a:xfrm rot="1516800">
              <a:off x="5502240" y="5203800"/>
              <a:ext cx="797040" cy="71928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丽婴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93"/>
            <p:cNvSpPr/>
            <p:nvPr/>
          </p:nvSpPr>
          <p:spPr>
            <a:xfrm rot="1456800">
              <a:off x="6238440" y="5518080"/>
              <a:ext cx="720720" cy="71928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汤姆故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94"/>
            <p:cNvSpPr/>
            <p:nvPr/>
          </p:nvSpPr>
          <p:spPr>
            <a:xfrm rot="1486800">
              <a:off x="6886440" y="5878440"/>
              <a:ext cx="932040" cy="71928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"/>
                </a:rPr>
                <a:t>拉比童装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5T13:24:57Z</dcterms:created>
  <dc:creator>微软用户</dc:creator>
  <dc:description/>
  <dc:language>en-US</dc:language>
  <cp:lastModifiedBy>微软用户</cp:lastModifiedBy>
  <dcterms:modified xsi:type="dcterms:W3CDTF">2013-03-22T06:58:16Z</dcterms:modified>
  <cp:revision>37</cp:revision>
  <dc:subject/>
  <dc:title>幻灯片 1</dc:title>
</cp:coreProperties>
</file>