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9AB-88F5-4647-9449-365C31A1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2B3-D8F4-4E71-AECA-404C3400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ECC-6623-4E34-B5B1-AC00EE42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B8F-A8DE-4BBD-81AE-6A88958C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77C-A7C2-460C-8BA8-C438052E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410-106C-484A-9678-4287F244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D64-F4A4-439E-B8E0-B7E5AAD0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A07-8208-4F04-9F42-60204910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D86-9693-4A84-AA5C-59B9F615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FF6-37BD-456A-9A8F-AF1B416B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BED-2625-4154-B5E7-438D4BD0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FDA-A5D8-4C79-B5A1-B42258E8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01AD-F6CB-4157-AF6A-B3BBB4FB9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1"/>
          <p:cNvSpPr/>
          <p:nvPr/>
        </p:nvSpPr>
        <p:spPr>
          <a:xfrm>
            <a:off x="5435640" y="765000"/>
            <a:ext cx="3097080" cy="2519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572000" y="4437000"/>
            <a:ext cx="431640" cy="338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资生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6"/>
          <p:cNvSpPr/>
          <p:nvPr/>
        </p:nvSpPr>
        <p:spPr>
          <a:xfrm>
            <a:off x="1332000" y="5589720"/>
            <a:ext cx="194472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泽龙泰     六福    周生生   周大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7"/>
          <p:cNvSpPr/>
          <p:nvPr/>
        </p:nvSpPr>
        <p:spPr>
          <a:xfrm>
            <a:off x="1332000" y="4797360"/>
            <a:ext cx="43164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翡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物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8"/>
          <p:cNvSpPr/>
          <p:nvPr/>
        </p:nvSpPr>
        <p:spPr>
          <a:xfrm rot="1987200">
            <a:off x="1517760" y="3946680"/>
            <a:ext cx="334800" cy="823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9"/>
          <p:cNvSpPr/>
          <p:nvPr/>
        </p:nvSpPr>
        <p:spPr>
          <a:xfrm rot="1970400">
            <a:off x="1987200" y="3192120"/>
            <a:ext cx="334800" cy="876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0"/>
          <p:cNvSpPr/>
          <p:nvPr/>
        </p:nvSpPr>
        <p:spPr>
          <a:xfrm>
            <a:off x="1908000" y="4941720"/>
            <a:ext cx="136872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翠宝轩   瑞恩珠宝  周大生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1"/>
          <p:cNvSpPr/>
          <p:nvPr/>
        </p:nvSpPr>
        <p:spPr>
          <a:xfrm>
            <a:off x="2050920" y="4508640"/>
            <a:ext cx="576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中国黄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2"/>
          <p:cNvSpPr/>
          <p:nvPr/>
        </p:nvSpPr>
        <p:spPr>
          <a:xfrm>
            <a:off x="2700360" y="4508640"/>
            <a:ext cx="5745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晶永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3"/>
          <p:cNvSpPr/>
          <p:nvPr/>
        </p:nvSpPr>
        <p:spPr>
          <a:xfrm>
            <a:off x="2268360" y="4076640"/>
            <a:ext cx="5032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大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4"/>
          <p:cNvSpPr/>
          <p:nvPr/>
        </p:nvSpPr>
        <p:spPr>
          <a:xfrm>
            <a:off x="2843280" y="4076640"/>
            <a:ext cx="5745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铭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5"/>
          <p:cNvSpPr/>
          <p:nvPr/>
        </p:nvSpPr>
        <p:spPr>
          <a:xfrm>
            <a:off x="2484360" y="3573360"/>
            <a:ext cx="43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红珊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6"/>
          <p:cNvSpPr/>
          <p:nvPr/>
        </p:nvSpPr>
        <p:spPr>
          <a:xfrm>
            <a:off x="2987640" y="3573360"/>
            <a:ext cx="43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缘与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7"/>
          <p:cNvSpPr/>
          <p:nvPr/>
        </p:nvSpPr>
        <p:spPr>
          <a:xfrm>
            <a:off x="3059280" y="2781360"/>
            <a:ext cx="43164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真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8"/>
          <p:cNvSpPr/>
          <p:nvPr/>
        </p:nvSpPr>
        <p:spPr>
          <a:xfrm>
            <a:off x="3564000" y="2781360"/>
            <a:ext cx="43164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亿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众鑫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9"/>
          <p:cNvSpPr/>
          <p:nvPr/>
        </p:nvSpPr>
        <p:spPr>
          <a:xfrm rot="1406400">
            <a:off x="3249360" y="1197000"/>
            <a:ext cx="663480" cy="1222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 d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4284720" y="765000"/>
            <a:ext cx="43164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1"/>
          <p:cNvSpPr/>
          <p:nvPr/>
        </p:nvSpPr>
        <p:spPr>
          <a:xfrm>
            <a:off x="4284720" y="1125360"/>
            <a:ext cx="431640" cy="36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露莎尼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2"/>
          <p:cNvSpPr/>
          <p:nvPr/>
        </p:nvSpPr>
        <p:spPr>
          <a:xfrm>
            <a:off x="4140360" y="1700280"/>
            <a:ext cx="36036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潮宏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6"/>
          <p:cNvSpPr/>
          <p:nvPr/>
        </p:nvSpPr>
        <p:spPr>
          <a:xfrm>
            <a:off x="4356000" y="2205000"/>
            <a:ext cx="64764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亿福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7"/>
          <p:cNvSpPr/>
          <p:nvPr/>
        </p:nvSpPr>
        <p:spPr>
          <a:xfrm>
            <a:off x="4859280" y="765000"/>
            <a:ext cx="360360" cy="136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&amp;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和田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翠宝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元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雯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龙凤麒麟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8"/>
          <p:cNvSpPr/>
          <p:nvPr/>
        </p:nvSpPr>
        <p:spPr>
          <a:xfrm>
            <a:off x="3492360" y="357336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9"/>
          <p:cNvSpPr/>
          <p:nvPr/>
        </p:nvSpPr>
        <p:spPr>
          <a:xfrm>
            <a:off x="3492360" y="4076640"/>
            <a:ext cx="4320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香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0"/>
          <p:cNvSpPr/>
          <p:nvPr/>
        </p:nvSpPr>
        <p:spPr>
          <a:xfrm>
            <a:off x="3492360" y="450864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1"/>
          <p:cNvSpPr/>
          <p:nvPr/>
        </p:nvSpPr>
        <p:spPr>
          <a:xfrm>
            <a:off x="3492360" y="501336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ke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 e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2"/>
          <p:cNvSpPr/>
          <p:nvPr/>
        </p:nvSpPr>
        <p:spPr>
          <a:xfrm>
            <a:off x="4572000" y="494172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碧欧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3"/>
          <p:cNvSpPr/>
          <p:nvPr/>
        </p:nvSpPr>
        <p:spPr>
          <a:xfrm>
            <a:off x="4572000" y="400536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IVENC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4"/>
          <p:cNvSpPr/>
          <p:nvPr/>
        </p:nvSpPr>
        <p:spPr>
          <a:xfrm>
            <a:off x="5148360" y="494172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兰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5"/>
          <p:cNvSpPr/>
          <p:nvPr/>
        </p:nvSpPr>
        <p:spPr>
          <a:xfrm>
            <a:off x="5148360" y="400536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茱莉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6"/>
          <p:cNvSpPr/>
          <p:nvPr/>
        </p:nvSpPr>
        <p:spPr>
          <a:xfrm>
            <a:off x="5148360" y="443700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AR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7"/>
          <p:cNvSpPr/>
          <p:nvPr/>
        </p:nvSpPr>
        <p:spPr>
          <a:xfrm>
            <a:off x="4140360" y="3141720"/>
            <a:ext cx="215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9"/>
          <p:cNvSpPr/>
          <p:nvPr/>
        </p:nvSpPr>
        <p:spPr>
          <a:xfrm>
            <a:off x="4356000" y="3141720"/>
            <a:ext cx="21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0"/>
          <p:cNvSpPr/>
          <p:nvPr/>
        </p:nvSpPr>
        <p:spPr>
          <a:xfrm>
            <a:off x="4572000" y="3141720"/>
            <a:ext cx="21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蜜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佛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1"/>
          <p:cNvSpPr/>
          <p:nvPr/>
        </p:nvSpPr>
        <p:spPr>
          <a:xfrm>
            <a:off x="4788000" y="3141720"/>
            <a:ext cx="215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v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2"/>
          <p:cNvSpPr/>
          <p:nvPr/>
        </p:nvSpPr>
        <p:spPr>
          <a:xfrm>
            <a:off x="4140360" y="3500280"/>
            <a:ext cx="215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蒂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3"/>
          <p:cNvSpPr/>
          <p:nvPr/>
        </p:nvSpPr>
        <p:spPr>
          <a:xfrm>
            <a:off x="4356000" y="3500280"/>
            <a:ext cx="21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4"/>
          <p:cNvSpPr/>
          <p:nvPr/>
        </p:nvSpPr>
        <p:spPr>
          <a:xfrm>
            <a:off x="4572000" y="3500280"/>
            <a:ext cx="21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理肤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5"/>
          <p:cNvSpPr/>
          <p:nvPr/>
        </p:nvSpPr>
        <p:spPr>
          <a:xfrm>
            <a:off x="4788000" y="3500280"/>
            <a:ext cx="215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佳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6"/>
          <p:cNvSpPr/>
          <p:nvPr/>
        </p:nvSpPr>
        <p:spPr>
          <a:xfrm>
            <a:off x="5076720" y="350028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兰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4653000"/>
            <a:ext cx="2156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 rot="21454200">
            <a:off x="6156360" y="3500280"/>
            <a:ext cx="431640" cy="180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佰草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水芝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玉兰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H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9"/>
          <p:cNvSpPr/>
          <p:nvPr/>
        </p:nvSpPr>
        <p:spPr>
          <a:xfrm rot="21472200">
            <a:off x="6732360" y="3499920"/>
            <a:ext cx="431640" cy="180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玲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汇美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丸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泊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嘉媚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蝶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0"/>
          <p:cNvSpPr/>
          <p:nvPr/>
        </p:nvSpPr>
        <p:spPr>
          <a:xfrm rot="21480000">
            <a:off x="7196040" y="3379320"/>
            <a:ext cx="1366920" cy="1851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浪琴  豪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豪度   英纳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度  古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波  凡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梭  飞亚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雷达  罗西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美  依波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梅花   依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西铁城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路华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臻 天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名威   摩凡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绿琴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A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1"/>
          <p:cNvSpPr/>
          <p:nvPr/>
        </p:nvSpPr>
        <p:spPr>
          <a:xfrm>
            <a:off x="4859280" y="2492280"/>
            <a:ext cx="144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2"/>
          <p:cNvSpPr/>
          <p:nvPr/>
        </p:nvSpPr>
        <p:spPr>
          <a:xfrm>
            <a:off x="4140360" y="2708280"/>
            <a:ext cx="64764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珊瑚秀银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3"/>
          <p:cNvSpPr/>
          <p:nvPr/>
        </p:nvSpPr>
        <p:spPr>
          <a:xfrm>
            <a:off x="5796000" y="184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5"/>
          <p:cNvSpPr/>
          <p:nvPr/>
        </p:nvSpPr>
        <p:spPr>
          <a:xfrm>
            <a:off x="4572000" y="551664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娇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6"/>
          <p:cNvSpPr/>
          <p:nvPr/>
        </p:nvSpPr>
        <p:spPr>
          <a:xfrm>
            <a:off x="5219640" y="551664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7"/>
          <p:cNvSpPr/>
          <p:nvPr/>
        </p:nvSpPr>
        <p:spPr>
          <a:xfrm>
            <a:off x="3492360" y="551664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K-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8"/>
          <p:cNvSpPr/>
          <p:nvPr/>
        </p:nvSpPr>
        <p:spPr>
          <a:xfrm>
            <a:off x="3995640" y="551664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倩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9"/>
          <p:cNvSpPr/>
          <p:nvPr/>
        </p:nvSpPr>
        <p:spPr>
          <a:xfrm>
            <a:off x="3348000" y="595008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I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I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0"/>
          <p:cNvSpPr/>
          <p:nvPr/>
        </p:nvSpPr>
        <p:spPr>
          <a:xfrm>
            <a:off x="3995640" y="59500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诗兰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1"/>
          <p:cNvSpPr/>
          <p:nvPr/>
        </p:nvSpPr>
        <p:spPr>
          <a:xfrm>
            <a:off x="5796000" y="5877000"/>
            <a:ext cx="7207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2"/>
          <p:cNvSpPr/>
          <p:nvPr/>
        </p:nvSpPr>
        <p:spPr>
          <a:xfrm>
            <a:off x="6659640" y="587700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3"/>
          <p:cNvSpPr/>
          <p:nvPr/>
        </p:nvSpPr>
        <p:spPr>
          <a:xfrm>
            <a:off x="5796000" y="544500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n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4"/>
          <p:cNvSpPr/>
          <p:nvPr/>
        </p:nvSpPr>
        <p:spPr>
          <a:xfrm>
            <a:off x="6300720" y="544500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珀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5"/>
          <p:cNvSpPr/>
          <p:nvPr/>
        </p:nvSpPr>
        <p:spPr>
          <a:xfrm>
            <a:off x="6877080" y="5445000"/>
            <a:ext cx="431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娥佩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自然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6"/>
          <p:cNvSpPr/>
          <p:nvPr/>
        </p:nvSpPr>
        <p:spPr>
          <a:xfrm>
            <a:off x="5940360" y="4005360"/>
            <a:ext cx="216000" cy="12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7"/>
          <p:cNvSpPr/>
          <p:nvPr/>
        </p:nvSpPr>
        <p:spPr>
          <a:xfrm>
            <a:off x="4140360" y="4221000"/>
            <a:ext cx="21564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8"/>
          <p:cNvSpPr/>
          <p:nvPr/>
        </p:nvSpPr>
        <p:spPr>
          <a:xfrm>
            <a:off x="5580000" y="350028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丽莎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1946160" y="6156360"/>
            <a:ext cx="1154160" cy="2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佛伦蒂奴  报喜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100320" y="6156360"/>
            <a:ext cx="5580000" cy="297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林羊        路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索菲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郦妮       蓝地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RST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子苞米       马天奴        萨侬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T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 rot="2115600">
            <a:off x="1305000" y="6010200"/>
            <a:ext cx="577800" cy="29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郎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维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 rot="16782600">
            <a:off x="290160" y="4920840"/>
            <a:ext cx="1771560" cy="2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佛朗尼齐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奴迪路   威可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 rot="18423000">
            <a:off x="1420200" y="3700800"/>
            <a:ext cx="664920" cy="2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易诗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 rot="18537000">
            <a:off x="1239480" y="2286720"/>
            <a:ext cx="3019320" cy="2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比华利保罗    金利来金标   梦特娇    皇家圣保罗     鲍士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3549600" y="765000"/>
            <a:ext cx="576360" cy="44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4446720" y="692280"/>
            <a:ext cx="1155600" cy="442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克琼斯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5602320" y="987480"/>
            <a:ext cx="576360" cy="220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足间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6948360" y="1208160"/>
            <a:ext cx="704880" cy="812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6049800" y="1355760"/>
            <a:ext cx="514440" cy="222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可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446720" y="1798560"/>
            <a:ext cx="642960" cy="2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e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6049800" y="1650960"/>
            <a:ext cx="514440" cy="444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6564240" y="1650960"/>
            <a:ext cx="384120" cy="444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 rot="15973200">
            <a:off x="6375240" y="2669760"/>
            <a:ext cx="3105000" cy="320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纳帕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M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朗文斯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歌莉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柯兰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 rot="21297000">
            <a:off x="7910640" y="4384800"/>
            <a:ext cx="322200" cy="22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睿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2"/>
          <p:cNvSpPr/>
          <p:nvPr/>
        </p:nvSpPr>
        <p:spPr>
          <a:xfrm rot="15973200">
            <a:off x="7566480" y="5292720"/>
            <a:ext cx="1401480" cy="320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舍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诗娃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碧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6735600" y="5419800"/>
            <a:ext cx="1239840" cy="442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LE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尤   婉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4446720" y="4900680"/>
            <a:ext cx="1603080" cy="9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卓雅   诗篇   玛丝菲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2779560" y="5492880"/>
            <a:ext cx="962280" cy="36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庄子 红袖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7"/>
          <p:cNvSpPr/>
          <p:nvPr/>
        </p:nvSpPr>
        <p:spPr>
          <a:xfrm>
            <a:off x="3741840" y="5640480"/>
            <a:ext cx="576000" cy="22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厚木 棉元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1689120" y="5492880"/>
            <a:ext cx="45072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英国保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2138400" y="5492880"/>
            <a:ext cx="51264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仕东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0"/>
          <p:cNvSpPr/>
          <p:nvPr/>
        </p:nvSpPr>
        <p:spPr>
          <a:xfrm>
            <a:off x="6307200" y="4900680"/>
            <a:ext cx="1668240" cy="36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巨式       卡洛琳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x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1766880" y="4869000"/>
            <a:ext cx="2016000" cy="474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迪博迩  度文  路卡迪文  曼哈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3"/>
          <p:cNvSpPr/>
          <p:nvPr/>
        </p:nvSpPr>
        <p:spPr>
          <a:xfrm>
            <a:off x="6178680" y="4309920"/>
            <a:ext cx="1538280" cy="370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CH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家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4"/>
          <p:cNvSpPr/>
          <p:nvPr/>
        </p:nvSpPr>
        <p:spPr>
          <a:xfrm>
            <a:off x="1882800" y="4309920"/>
            <a:ext cx="2435040" cy="37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佛伦斯         杰克斯           爵士丹尼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2075040" y="3794040"/>
            <a:ext cx="2242800" cy="37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OFIELD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伦敦雾    骆驼动感    甘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6178680" y="3794040"/>
            <a:ext cx="1538280" cy="370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SS              5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7"/>
          <p:cNvSpPr/>
          <p:nvPr/>
        </p:nvSpPr>
        <p:spPr>
          <a:xfrm>
            <a:off x="6114960" y="3276720"/>
            <a:ext cx="1538280" cy="369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江南布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4446720" y="3276720"/>
            <a:ext cx="96336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法国鳄鱼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2716200" y="3276720"/>
            <a:ext cx="153828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比音勒芬  暇步士  万宝路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3486240" y="1798560"/>
            <a:ext cx="768240" cy="149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恒源祥   亚当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4767120" y="2168640"/>
            <a:ext cx="514440" cy="149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稻草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3"/>
          <p:cNvSpPr/>
          <p:nvPr/>
        </p:nvSpPr>
        <p:spPr>
          <a:xfrm>
            <a:off x="5218200" y="1725480"/>
            <a:ext cx="639720" cy="370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-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4"/>
          <p:cNvSpPr/>
          <p:nvPr/>
        </p:nvSpPr>
        <p:spPr>
          <a:xfrm>
            <a:off x="5218200" y="1355760"/>
            <a:ext cx="639720" cy="295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可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5"/>
          <p:cNvSpPr/>
          <p:nvPr/>
        </p:nvSpPr>
        <p:spPr>
          <a:xfrm>
            <a:off x="3678120" y="1355760"/>
            <a:ext cx="141156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     波斯雷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蓝威龙             利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6"/>
          <p:cNvSpPr/>
          <p:nvPr/>
        </p:nvSpPr>
        <p:spPr>
          <a:xfrm>
            <a:off x="6114960" y="2760840"/>
            <a:ext cx="641520" cy="36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几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7"/>
          <p:cNvSpPr/>
          <p:nvPr/>
        </p:nvSpPr>
        <p:spPr>
          <a:xfrm>
            <a:off x="6114960" y="2317680"/>
            <a:ext cx="641520" cy="366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e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8"/>
          <p:cNvSpPr/>
          <p:nvPr/>
        </p:nvSpPr>
        <p:spPr>
          <a:xfrm>
            <a:off x="4638600" y="2538360"/>
            <a:ext cx="514440" cy="149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ip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9"/>
          <p:cNvSpPr/>
          <p:nvPr/>
        </p:nvSpPr>
        <p:spPr>
          <a:xfrm>
            <a:off x="2908440" y="2833560"/>
            <a:ext cx="833400" cy="293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0"/>
          <p:cNvSpPr/>
          <p:nvPr/>
        </p:nvSpPr>
        <p:spPr>
          <a:xfrm>
            <a:off x="3100320" y="2538360"/>
            <a:ext cx="641520" cy="2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舒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1"/>
          <p:cNvSpPr/>
          <p:nvPr/>
        </p:nvSpPr>
        <p:spPr>
          <a:xfrm>
            <a:off x="3227400" y="2241720"/>
            <a:ext cx="514440" cy="29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波士名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2"/>
          <p:cNvSpPr/>
          <p:nvPr/>
        </p:nvSpPr>
        <p:spPr>
          <a:xfrm>
            <a:off x="3741840" y="2760840"/>
            <a:ext cx="51264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3"/>
          <p:cNvSpPr/>
          <p:nvPr/>
        </p:nvSpPr>
        <p:spPr>
          <a:xfrm>
            <a:off x="3741840" y="2241720"/>
            <a:ext cx="512640" cy="442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威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4"/>
          <p:cNvSpPr/>
          <p:nvPr/>
        </p:nvSpPr>
        <p:spPr>
          <a:xfrm>
            <a:off x="3486240" y="1947960"/>
            <a:ext cx="768240" cy="14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梵蒂士   金海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5"/>
          <p:cNvSpPr/>
          <p:nvPr/>
        </p:nvSpPr>
        <p:spPr>
          <a:xfrm>
            <a:off x="4446720" y="2833560"/>
            <a:ext cx="1027080" cy="29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柒牌  九牧王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男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6"/>
          <p:cNvSpPr/>
          <p:nvPr/>
        </p:nvSpPr>
        <p:spPr>
          <a:xfrm>
            <a:off x="5473800" y="2833560"/>
            <a:ext cx="512640" cy="812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K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7"/>
          <p:cNvSpPr/>
          <p:nvPr/>
        </p:nvSpPr>
        <p:spPr>
          <a:xfrm>
            <a:off x="6948360" y="2317680"/>
            <a:ext cx="577800" cy="812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G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4"/>
          <p:cNvSpPr/>
          <p:nvPr/>
        </p:nvSpPr>
        <p:spPr>
          <a:xfrm>
            <a:off x="3782880" y="4869000"/>
            <a:ext cx="50508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恩曼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5"/>
          <p:cNvSpPr/>
          <p:nvPr/>
        </p:nvSpPr>
        <p:spPr>
          <a:xfrm>
            <a:off x="6375240" y="5445000"/>
            <a:ext cx="36036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瑞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1403280" y="6018120"/>
            <a:ext cx="7489800" cy="33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佐罗斯丹          赛艇         金利来        百思图        哈森        她他         伊伴         千百度         雨中雨            星期六             米奥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 rot="21226200">
            <a:off x="8391600" y="4721400"/>
            <a:ext cx="50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接吻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 rot="21226200">
            <a:off x="8007480" y="2414160"/>
            <a:ext cx="504720" cy="22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怡佳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芬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福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思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吉媚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 rot="21226200">
            <a:off x="7785000" y="1403280"/>
            <a:ext cx="60192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724360" y="1265400"/>
            <a:ext cx="194328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之婷 曼妮芬 华歌尔 欧迪芬 黛安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435640" y="1193760"/>
            <a:ext cx="28872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可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724360" y="1770120"/>
            <a:ext cx="144000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嘉莉诗    安莉芳    婷美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5724360" y="2057400"/>
            <a:ext cx="144000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美丽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blin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古今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7164360" y="1770120"/>
            <a:ext cx="43200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夏娃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诱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084720" y="4218120"/>
            <a:ext cx="15829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玖姿         莉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6084720" y="3786120"/>
            <a:ext cx="15829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维      诺琪    替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6227640" y="4865760"/>
            <a:ext cx="194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露娜      欧斯东尼    思加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at for     AEE    FED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红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6659640" y="5370480"/>
            <a:ext cx="151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素人    莱尔斯丹    恩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卡索    索菲亚  馨宠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6227640" y="5370480"/>
            <a:ext cx="43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4211640" y="4865760"/>
            <a:ext cx="1728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真美诗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汤普葛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那然      玖熙    诺贝达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4284720" y="5370480"/>
            <a:ext cx="172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好人缘    花花公子   达芙妮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鳄鱼恤     卡威奴     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2771640" y="4865760"/>
            <a:ext cx="1297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乐士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曼仙妮    安玛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0"/>
          <p:cNvSpPr/>
          <p:nvPr/>
        </p:nvSpPr>
        <p:spPr>
          <a:xfrm>
            <a:off x="2340000" y="5442120"/>
            <a:ext cx="1728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百莉    康莉   凯萨罗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贵鸟    欢腾    森达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1"/>
          <p:cNvSpPr/>
          <p:nvPr/>
        </p:nvSpPr>
        <p:spPr>
          <a:xfrm>
            <a:off x="2340000" y="4865760"/>
            <a:ext cx="43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1258920" y="54421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公牛巨人 特丽雅 康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900000" y="4865760"/>
            <a:ext cx="1295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爵根仕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ss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绅威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     豪行     策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4"/>
          <p:cNvSpPr/>
          <p:nvPr/>
        </p:nvSpPr>
        <p:spPr>
          <a:xfrm rot="2145000">
            <a:off x="468000" y="59464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度  喜来登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5"/>
          <p:cNvSpPr/>
          <p:nvPr/>
        </p:nvSpPr>
        <p:spPr>
          <a:xfrm rot="16590000">
            <a:off x="35640" y="51537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袋鼠  沙驰 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6"/>
          <p:cNvSpPr/>
          <p:nvPr/>
        </p:nvSpPr>
        <p:spPr>
          <a:xfrm rot="18772200">
            <a:off x="251640" y="4145400"/>
            <a:ext cx="93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木林森  老船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7"/>
          <p:cNvSpPr/>
          <p:nvPr/>
        </p:nvSpPr>
        <p:spPr>
          <a:xfrm rot="16200000">
            <a:off x="845280" y="4270680"/>
            <a:ext cx="360360" cy="397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迈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8"/>
          <p:cNvSpPr/>
          <p:nvPr/>
        </p:nvSpPr>
        <p:spPr>
          <a:xfrm>
            <a:off x="1476360" y="4289400"/>
            <a:ext cx="2519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伽步      其乐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小时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1619280" y="3786120"/>
            <a:ext cx="23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玛格丽         瑞恩        裘提诺      蕾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6084720" y="2849400"/>
            <a:ext cx="15829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敦奴   菲依尼尼   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1"/>
          <p:cNvSpPr/>
          <p:nvPr/>
        </p:nvSpPr>
        <p:spPr>
          <a:xfrm>
            <a:off x="6084720" y="3281400"/>
            <a:ext cx="15829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朗姿      钡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2"/>
          <p:cNvSpPr/>
          <p:nvPr/>
        </p:nvSpPr>
        <p:spPr>
          <a:xfrm>
            <a:off x="4859280" y="2849400"/>
            <a:ext cx="1008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古色       邦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4859280" y="3209760"/>
            <a:ext cx="100800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瓒尼弗    装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4140360" y="2849400"/>
            <a:ext cx="71892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芝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1979640" y="3209760"/>
            <a:ext cx="201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丑妹    佛罗圣诗    欧蒂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娜尔斯              芬瑞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2411280" y="2705040"/>
            <a:ext cx="15130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咪     福克斯   菲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2843280" y="2201760"/>
            <a:ext cx="10810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莎菲尔  卡雷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4284720" y="2201760"/>
            <a:ext cx="792000" cy="1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幸福女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9"/>
          <p:cNvSpPr/>
          <p:nvPr/>
        </p:nvSpPr>
        <p:spPr>
          <a:xfrm>
            <a:off x="5292720" y="2346480"/>
            <a:ext cx="289080" cy="358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绣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0"/>
          <p:cNvSpPr/>
          <p:nvPr/>
        </p:nvSpPr>
        <p:spPr>
          <a:xfrm>
            <a:off x="5580000" y="2346480"/>
            <a:ext cx="289080" cy="358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袜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6084720" y="2417760"/>
            <a:ext cx="165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惠     梅岑    永恒颜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2"/>
          <p:cNvSpPr/>
          <p:nvPr/>
        </p:nvSpPr>
        <p:spPr>
          <a:xfrm>
            <a:off x="3419640" y="977760"/>
            <a:ext cx="18730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尔丽       海兰丝     玫而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3"/>
          <p:cNvSpPr/>
          <p:nvPr/>
        </p:nvSpPr>
        <p:spPr>
          <a:xfrm rot="18319200">
            <a:off x="287280" y="2244960"/>
            <a:ext cx="3952800" cy="289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巴万龙  嘉贝逸飞  米兰登  爱之怡  戴布拉芬  佳丝蔓  子齐  波司登 福太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4"/>
          <p:cNvSpPr/>
          <p:nvPr/>
        </p:nvSpPr>
        <p:spPr>
          <a:xfrm>
            <a:off x="3132000" y="1481040"/>
            <a:ext cx="71928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女裤   圣莱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5"/>
          <p:cNvSpPr/>
          <p:nvPr/>
        </p:nvSpPr>
        <p:spPr>
          <a:xfrm>
            <a:off x="3995640" y="1481040"/>
            <a:ext cx="57636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庄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格   昊腾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6"/>
          <p:cNvSpPr/>
          <p:nvPr/>
        </p:nvSpPr>
        <p:spPr>
          <a:xfrm>
            <a:off x="4716360" y="1481040"/>
            <a:ext cx="71928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五色风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懿菲  朗婷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8015400" y="6086520"/>
            <a:ext cx="718920" cy="627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367760" y="6237360"/>
            <a:ext cx="647640" cy="476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莱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048120" y="6164280"/>
            <a:ext cx="4319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DEN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米奇  阿迪男童  常春藤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w in paw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恋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迪女童   耐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1390680" y="6164280"/>
            <a:ext cx="165564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乔妮雅  孕之彩  防辐射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 rot="1221000">
            <a:off x="809280" y="5971680"/>
            <a:ext cx="56196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十月妈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 rot="19984800">
            <a:off x="347400" y="5732280"/>
            <a:ext cx="46836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仙聘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 rot="362400">
            <a:off x="347400" y="4436640"/>
            <a:ext cx="539640" cy="129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永高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童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乃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好孩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 rot="1903200">
            <a:off x="636480" y="4086000"/>
            <a:ext cx="54000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盘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 rot="18376800">
            <a:off x="1559160" y="2322000"/>
            <a:ext cx="15699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恩琳  吉西  波司登  艾莱依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3048120" y="1771560"/>
            <a:ext cx="934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宾休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 rot="16200000">
            <a:off x="3480480" y="126720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莱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4127400" y="692280"/>
            <a:ext cx="93528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air Wh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5135400" y="692280"/>
            <a:ext cx="720720" cy="43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体育器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"/>
          <p:cNvSpPr/>
          <p:nvPr/>
        </p:nvSpPr>
        <p:spPr>
          <a:xfrm>
            <a:off x="7007400" y="1413000"/>
            <a:ext cx="649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8015400" y="5516640"/>
            <a:ext cx="7189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李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2"/>
          <p:cNvSpPr/>
          <p:nvPr/>
        </p:nvSpPr>
        <p:spPr>
          <a:xfrm>
            <a:off x="8015400" y="4940280"/>
            <a:ext cx="7189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彪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 rot="21429600">
            <a:off x="8016480" y="4290480"/>
            <a:ext cx="71928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百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4"/>
          <p:cNvSpPr/>
          <p:nvPr/>
        </p:nvSpPr>
        <p:spPr>
          <a:xfrm rot="21393600">
            <a:off x="7945560" y="3787560"/>
            <a:ext cx="718920" cy="502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 rot="21393600">
            <a:off x="7943760" y="3355560"/>
            <a:ext cx="7192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迈乐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 rot="21354600">
            <a:off x="7779960" y="1555560"/>
            <a:ext cx="719280" cy="10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弗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7"/>
          <p:cNvSpPr/>
          <p:nvPr/>
        </p:nvSpPr>
        <p:spPr>
          <a:xfrm rot="21393600">
            <a:off x="7869240" y="2852280"/>
            <a:ext cx="71928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探路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8"/>
          <p:cNvSpPr/>
          <p:nvPr/>
        </p:nvSpPr>
        <p:spPr>
          <a:xfrm>
            <a:off x="7296120" y="5013360"/>
            <a:ext cx="64764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李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9"/>
          <p:cNvSpPr/>
          <p:nvPr/>
        </p:nvSpPr>
        <p:spPr>
          <a:xfrm>
            <a:off x="6648480" y="5013360"/>
            <a:ext cx="64764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5424480" y="5589720"/>
            <a:ext cx="1079640" cy="433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踏   花花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4199040" y="5805360"/>
            <a:ext cx="1008000" cy="142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法贝  史努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2"/>
          <p:cNvSpPr/>
          <p:nvPr/>
        </p:nvSpPr>
        <p:spPr>
          <a:xfrm>
            <a:off x="4199040" y="5589720"/>
            <a:ext cx="100800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英氏    拉比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3"/>
          <p:cNvSpPr/>
          <p:nvPr/>
        </p:nvSpPr>
        <p:spPr>
          <a:xfrm>
            <a:off x="3263760" y="5589720"/>
            <a:ext cx="79236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士尼  世纪星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3263760" y="5805360"/>
            <a:ext cx="79236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R-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1031760" y="5589720"/>
            <a:ext cx="151128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费雪牌  迪士尼  敢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6"/>
          <p:cNvSpPr/>
          <p:nvPr/>
        </p:nvSpPr>
        <p:spPr>
          <a:xfrm>
            <a:off x="1319040" y="5805360"/>
            <a:ext cx="122400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迪双钻    芭比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7"/>
          <p:cNvSpPr/>
          <p:nvPr/>
        </p:nvSpPr>
        <p:spPr>
          <a:xfrm>
            <a:off x="2543040" y="5589720"/>
            <a:ext cx="50508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杉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1535040" y="5013360"/>
            <a:ext cx="244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察哈尔王  丹熊  赛汗王  皮皮狗   兆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2182680" y="5229360"/>
            <a:ext cx="180036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哇哈哈        水孩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0"/>
          <p:cNvSpPr/>
          <p:nvPr/>
        </p:nvSpPr>
        <p:spPr>
          <a:xfrm>
            <a:off x="958680" y="5013360"/>
            <a:ext cx="57636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llo Kit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1"/>
          <p:cNvSpPr/>
          <p:nvPr/>
        </p:nvSpPr>
        <p:spPr>
          <a:xfrm>
            <a:off x="1535040" y="5229360"/>
            <a:ext cx="64764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米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2"/>
          <p:cNvSpPr/>
          <p:nvPr/>
        </p:nvSpPr>
        <p:spPr>
          <a:xfrm>
            <a:off x="1247760" y="4363920"/>
            <a:ext cx="273528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尔斯楞  天山羊绒  鹿王羊绒  鄂尔多斯  暇步士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1895400" y="3716280"/>
            <a:ext cx="21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4"/>
          <p:cNvSpPr/>
          <p:nvPr/>
        </p:nvSpPr>
        <p:spPr>
          <a:xfrm rot="16200000">
            <a:off x="3047040" y="3140280"/>
            <a:ext cx="36036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花公子 鳄鱼恤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 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5"/>
          <p:cNvSpPr/>
          <p:nvPr/>
        </p:nvSpPr>
        <p:spPr>
          <a:xfrm>
            <a:off x="2111400" y="37162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a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7"/>
          <p:cNvSpPr/>
          <p:nvPr/>
        </p:nvSpPr>
        <p:spPr>
          <a:xfrm rot="16200000">
            <a:off x="2903400" y="2636640"/>
            <a:ext cx="576000" cy="1150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旅行者 皮尔卡丹 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8"/>
          <p:cNvSpPr/>
          <p:nvPr/>
        </p:nvSpPr>
        <p:spPr>
          <a:xfrm>
            <a:off x="2327400" y="2997360"/>
            <a:ext cx="288720" cy="502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克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9"/>
          <p:cNvSpPr/>
          <p:nvPr/>
        </p:nvSpPr>
        <p:spPr>
          <a:xfrm>
            <a:off x="3767040" y="2205000"/>
            <a:ext cx="28908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特斯邦威 佐丹奴 班尼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0"/>
          <p:cNvSpPr/>
          <p:nvPr/>
        </p:nvSpPr>
        <p:spPr>
          <a:xfrm rot="16200000">
            <a:off x="5062680" y="549360"/>
            <a:ext cx="720720" cy="24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吉牧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T     1978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2"/>
          <p:cNvSpPr/>
          <p:nvPr/>
        </p:nvSpPr>
        <p:spPr>
          <a:xfrm>
            <a:off x="4272120" y="4005360"/>
            <a:ext cx="287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3"/>
          <p:cNvSpPr/>
          <p:nvPr/>
        </p:nvSpPr>
        <p:spPr>
          <a:xfrm rot="16200000">
            <a:off x="4233960" y="2889000"/>
            <a:ext cx="8665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森马  阿迪达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4"/>
          <p:cNvSpPr/>
          <p:nvPr/>
        </p:nvSpPr>
        <p:spPr>
          <a:xfrm>
            <a:off x="5135400" y="2924280"/>
            <a:ext cx="648000" cy="476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法国鳄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5"/>
          <p:cNvSpPr/>
          <p:nvPr/>
        </p:nvSpPr>
        <p:spPr>
          <a:xfrm>
            <a:off x="5135400" y="3355920"/>
            <a:ext cx="648000" cy="433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6"/>
          <p:cNvSpPr/>
          <p:nvPr/>
        </p:nvSpPr>
        <p:spPr>
          <a:xfrm rot="16200000">
            <a:off x="5637960" y="3069000"/>
            <a:ext cx="866520" cy="57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7"/>
          <p:cNvSpPr/>
          <p:nvPr/>
        </p:nvSpPr>
        <p:spPr>
          <a:xfrm rot="16200000">
            <a:off x="5748480" y="2239560"/>
            <a:ext cx="50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狼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8"/>
          <p:cNvSpPr/>
          <p:nvPr/>
        </p:nvSpPr>
        <p:spPr>
          <a:xfrm rot="16200000">
            <a:off x="6540480" y="2239560"/>
            <a:ext cx="502920" cy="57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9"/>
          <p:cNvSpPr/>
          <p:nvPr/>
        </p:nvSpPr>
        <p:spPr>
          <a:xfrm rot="16200000">
            <a:off x="7116840" y="2239560"/>
            <a:ext cx="50292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乐斯菲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0"/>
          <p:cNvSpPr/>
          <p:nvPr/>
        </p:nvSpPr>
        <p:spPr>
          <a:xfrm rot="16200000">
            <a:off x="6935760" y="2995560"/>
            <a:ext cx="432000" cy="1152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帕   匡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1"/>
          <p:cNvSpPr/>
          <p:nvPr/>
        </p:nvSpPr>
        <p:spPr>
          <a:xfrm rot="16200000">
            <a:off x="6935760" y="2563200"/>
            <a:ext cx="431640" cy="1152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E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伦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2"/>
          <p:cNvSpPr/>
          <p:nvPr/>
        </p:nvSpPr>
        <p:spPr>
          <a:xfrm>
            <a:off x="6072120" y="3932280"/>
            <a:ext cx="287280" cy="86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3"/>
          <p:cNvSpPr/>
          <p:nvPr/>
        </p:nvSpPr>
        <p:spPr>
          <a:xfrm>
            <a:off x="6648480" y="4076640"/>
            <a:ext cx="10796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4"/>
          <p:cNvSpPr/>
          <p:nvPr/>
        </p:nvSpPr>
        <p:spPr>
          <a:xfrm>
            <a:off x="5351400" y="4940280"/>
            <a:ext cx="122400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多  安奈儿 巴拉巴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5"/>
          <p:cNvSpPr/>
          <p:nvPr/>
        </p:nvSpPr>
        <p:spPr>
          <a:xfrm>
            <a:off x="4199040" y="4797360"/>
            <a:ext cx="100800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易迪高  卡拉贝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6"/>
          <p:cNvSpPr/>
          <p:nvPr/>
        </p:nvSpPr>
        <p:spPr>
          <a:xfrm>
            <a:off x="4199040" y="5156280"/>
            <a:ext cx="100800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宝度伦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3"/>
          <p:cNvSpPr/>
          <p:nvPr/>
        </p:nvSpPr>
        <p:spPr>
          <a:xfrm rot="18429600">
            <a:off x="1009440" y="3384000"/>
            <a:ext cx="10796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绒典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6  F18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"/>
          <p:cNvSpPr/>
          <p:nvPr/>
        </p:nvSpPr>
        <p:spPr>
          <a:xfrm>
            <a:off x="6227640" y="1989000"/>
            <a:ext cx="505080" cy="216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M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双立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Q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3708360" y="4941720"/>
            <a:ext cx="4320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远益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办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用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140360" y="4941720"/>
            <a:ext cx="43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沁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吉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4572000" y="4941720"/>
            <a:ext cx="43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能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汉诺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史密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5003640" y="4941720"/>
            <a:ext cx="115272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尔  方太  華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 rot="16200000">
            <a:off x="5382360" y="4347360"/>
            <a:ext cx="39528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瑞天盛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隆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4067280" y="4437000"/>
            <a:ext cx="43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先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V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4716360" y="4437000"/>
            <a:ext cx="43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绣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4067280" y="3860640"/>
            <a:ext cx="43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4067280" y="328464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4643280" y="3284640"/>
            <a:ext cx="505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奔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5292720" y="3284640"/>
            <a:ext cx="64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珍珠生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5292720" y="3860640"/>
            <a:ext cx="647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MUD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特百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利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4643280" y="3860640"/>
            <a:ext cx="505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锐珀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5580000" y="1917720"/>
            <a:ext cx="43200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力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象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希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0"/>
          <p:cNvSpPr/>
          <p:nvPr/>
        </p:nvSpPr>
        <p:spPr>
          <a:xfrm>
            <a:off x="3635280" y="1341360"/>
            <a:ext cx="25210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索尼           多样屋          利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2987640" y="2637000"/>
            <a:ext cx="360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手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连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2"/>
          <p:cNvSpPr/>
          <p:nvPr/>
        </p:nvSpPr>
        <p:spPr>
          <a:xfrm rot="16200000">
            <a:off x="2518560" y="1810080"/>
            <a:ext cx="1297080" cy="35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尼康 三星 佳能 索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4"/>
          <p:cNvSpPr/>
          <p:nvPr/>
        </p:nvSpPr>
        <p:spPr>
          <a:xfrm>
            <a:off x="3492360" y="3284640"/>
            <a:ext cx="5050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苏泊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兰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7"/>
          <p:cNvSpPr/>
          <p:nvPr/>
        </p:nvSpPr>
        <p:spPr>
          <a:xfrm>
            <a:off x="3564000" y="1917720"/>
            <a:ext cx="360360" cy="43164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派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8"/>
          <p:cNvSpPr/>
          <p:nvPr/>
        </p:nvSpPr>
        <p:spPr>
          <a:xfrm>
            <a:off x="3564000" y="2565360"/>
            <a:ext cx="360360" cy="57636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快易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国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纽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3564000" y="2349360"/>
            <a:ext cx="360360" cy="28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体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7:20:35Z</dcterms:created>
  <dc:creator>微软用户</dc:creator>
  <dc:description/>
  <dc:language>en-US</dc:language>
  <cp:lastModifiedBy>微软用户</cp:lastModifiedBy>
  <dcterms:modified xsi:type="dcterms:W3CDTF">2013-03-20T10:57:14Z</dcterms:modified>
  <cp:revision>32</cp:revision>
  <dc:subject/>
  <dc:title>幻灯片 1</dc:title>
</cp:coreProperties>
</file>